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3e68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F63F-8941-4B0C-AFDF-C06AEFB06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step is to estimate muscle belly locations from se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soids are used in our muscle model to represent muscle bel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itial ellipsoids will later be transformed into shape-fitting ellips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art of the muscul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we define muscle pair reference planes, one for each desired muscle 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uscle pairs are specified along specific bones, these bones are each assigned a referenc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lanes partition the segment associated with the b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tition fit with a mus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reference plane positions have been specified, each segment partition is fit with a best-fit ellips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approach uses a least squares fit of points by a Gaussian distribution to calculate the best-fit ellips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lipsoid properties are then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er of the ellipsoid is the mean of the partition data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ientation of the ellipsoid is defined by the eigenvectors of the covariance matrix of the data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ale of the ellipsoid is specified by the square roots of the eigenvalues of the covariance 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found using a method such as SV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way to understand why this approach would produce acceptable ellipsoids is that we are trying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Gaussian distribution most likely to have generated the given surface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is distribution we are able to extract properties that define an ellips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iven the ellipsoids from the fitting, we can now construct the musculat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r muscle model is based on the fusiform muscle model of Ferdi Scheepers &amp; colleagu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model uses volume preserving ellipsoids along with optional constant length tendo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dons connect the muscle belly to the control skeleton, and due to their constant length, skeletal j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tation causes muscle belly expansion and contrac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ach muscle has an origin, an insertion, 2 optional hinge points, and a muscle bell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origin and insertion define tendon attachment points on the bon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hinge points have no real anatomical significance; rather, they allow tendons to be defined as piece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ear curves to conceptually model the wrapping of tendons around bone without having to explicitly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keletal shap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llipsoids from the fit are used as the muscle bellies; they provide initial muscle belly posi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lume, ratio, and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locations of the origin, insertion, and hinge points can either be specified interactively by the user (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 locations), or loaded from a musculoskeletal template fi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MST file allows musculoskeletal structures to be stored and then reused on any new character sha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ed on the same underlying control skelet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s are typically authored once and reused for a set of varying charact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T files only store muscle arrangement information – they do not store explicit geometry for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sculat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MST file contains parameters for a set of musc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include transformation indices into the control skeleton, as well as the positions of the origi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ions and hinge points for a particular musculat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requires that each character be fit with its own set of ellipsoids, but this should be the case anyways,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muscle geometry should conform to the shapes of the individual character ski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wever, the fitting process is fast (seconds), and with an existing MST file, it would only takes a f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nutes to fully rig a charact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l step in constructing the musculature is shaping the ellipsoidal muscle bellies to conform to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’s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lows us to capture believable deformation of underlying tissue for stylized character mod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lipsoid point should be transformed to the intersection on the skin surface – too cylindr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mooth, fusiform muscle shape, attenuate displacement along ellipsoid length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ly attenuate muscle shape radially about length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s muscle shape and influence lo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angle between muscle pair reference plane normal and r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on ‘backside’ of muscle linearly interpolated between p_r and p based on dot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shape can then be smoothed to remove any sharp or rigid fe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discuss the models for muscle deformation and surface de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way to update muscle geometry based on skeletal pose, and then a way to deform skin bas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lying muscle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have skeletal animation produce skin deformations based on underlying muscle shape intera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stated earlier, our muscle model is based on the fusiform muscle model of Scheepers and colleagu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is a volume preserving, geometric approach that allows for direct animator control and interactivit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scle deformations are generated by animating the control skelet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ce the tendons are constrained to be constant length, the change in the overall muscle length is accoun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by shortening the muscle bell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wever, the volume of the underlying ellipsoid of the arbitrary shaped muscle is preserved, thus creating believ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scle bulging through appropriate scal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itionally, we account for a level of fitness in the character’s muscles; accounts for fatty tiss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provide a tone parameter which interpolates the shaped muscle’s final shape between the rest po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scle and the volume preserving mus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us, a fit character’s muscles would have high muscle tone and fully deforming musc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kewise, a less-fit character would have less change in muscle shape, conveying the tendency of fat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ssue to not contract as muscle tissue do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Video:   t=1.0   t=0.5   t=0.2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choose to use a geometric muscle deformation approach based on volume preservation as it is effici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fast enough to be interact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wever, example-based methods, such as scattered data interpolation, or even simulation methods c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he muscle deformation mode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lize, of course, that there would be trade-off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ample-based  -&gt;  need multiple artist-sculpted po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ulation  -&gt;  lose direct user control and interactivit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discuss our novel deformation model responsible for creating skin surface deformations,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driven by the deforming underlying muscle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metric deformer consists of several shells concentric to the unit sphere in local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of these shells will be discussed in 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eformations are calculated in the deformer’s local space, and occur radially relative to the unit 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ase the deformation model on the unit sphere as computations can be performed efficiently,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mportant to maintain inter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form a surface point, we transform to the local space of the unit sphere, perform the deformation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ransform back to the object’s space in one of several ways, allowing for various types of de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etween unit sphere (s=1) and 1+d shell (s=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diagr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 – unit 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le –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– sticky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beyond unit 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diagr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 – unit 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le –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– sticky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– drop-off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etween unit sphere (h=0) and drop-off shell (h=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(1-r^2)^2 for attenuation, but can be any function from 1 to 0 that is piecewise continu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diagr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 – unit 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le –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– sticky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– drop-off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– hard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duce believable character animations, it’s necessary to have convincing skin de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not only skeletal def but also secondary effects due to 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existing methods construction very time consuming; want to speed up and make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, when time to animate user have direct control and able to do intera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obtain deformed surface point, transform deformed local point by skin world transformation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ble to achieve directionality of deformation, as well as characteristics of stretching, by u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location and an accessory deformer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ormation of the surface proceeds in the local space of the base, as described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ention anchoring of skin to muscle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ransforming back to character object space, we use a transformation that is an interp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base and accessory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polation is based on the normalized distance of the local point between the unit sphere and drop-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surface slippage can be simulated through an exponential slippage parameter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artist types of de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, the deformation model is generalized to allow for deformation by arbitrary star-shaped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by calculating regularly spaced displacements to the object from the unit 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alculating the deformation for a surface point, we offset the deformation by the bilinear interp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displacements for the corners of the unit sphere patch that the point lies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 this back to shaped mus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all deformation calculations are performed analytically and efficiently, allowing the animator t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system intera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generate skin surface deformations based on underlying muscle shape, we attach a radial geo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ormer to each shaped muscle and use the shaped muscle as the arbitrary shape input to the defor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sure that there is no deformation in the rest pose, we offset all deformations by the deformation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occur when in the rest pose. Cache offsets of deformation in the rest pose; adjust de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o produce interactive skin deformations based on skeletal animation, we have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on animation updates muscl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shape updates defo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ormer updates skin de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n video start at 00:03: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geometric for testing / ani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imulation for production quality rend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next step in defining the musculature is to estimate the locations of muscle bell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sed on the mesh segmenta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lipsoids are used in our muscle model to represent muscle belli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se initial ellipsoids will later be transformed into shape-fitting ellipsoi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 part of the musculatu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rst we define muscle pair reference planes, one for each desired muscle p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 muscle pairs are specified along specific bones, these bones are each assigned a reference pla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se planes partition the segment associated with the bone and their position is used for muscle pai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lacement relative to the bo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fter the reference plane positions have been specified, each segment partition is fit with a best-fit ellipsoi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r approach uses a least squares fit of points by a Gaussian distribution to calculate the best-fit ellipsoi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ellipsoid properties are then defined as follow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center of the ellipsoid is the mean of the partition data poi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orientation of the ellipsoid is defined by the eigenvectors of the covariance matrix of the data poi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scale of the ellipsoid is specified by the square roots of the eigenvalues of the covariance matri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 eigen decomposition of the covariance matrix exists, as the matrix is a real symmetric matrix, and c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 found using a method such as SV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e way to understand why this approach would produce acceptable ellipsoids is that we are trying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d the Gaussian distribution most likely to have generated the given surface point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om this distribution we are able to extract properties that define an ellipsoi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ic most common as computationally inexpensive, interactive, and di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not as realistic as physically-based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techniques usually involve simulation or numerical comp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mor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tional complexity and lack of direct, interactive control make unpop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nim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, anatomic methods model explicit musculature and enhance geometric / 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re inside-out – muscle on bone, skin either attached to or generated from mus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ntrast, we work outside-in – using skin estimate musculature and deform geometr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like to construct muscles adapted to the character’s features to produce believable deforma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o make this process as automatic a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muscle structure has been defined, we’d like to be able to reuse that configuration on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 based on the same control skele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rtists spend much time and effort on designing their characters, we’d like to preserve the charact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pe when in the given 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generate skin deformations based on underlying geometry, which the user has di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ver and can do at interactive 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possible, the method should fit in with approach users are comfortable wi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ing with an artist-sculpted character skin and a control skeleto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irst segment the mesh based on bones of the underlying control skele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soids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ture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ormation model assoc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animation produces skin defor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s and adapts an anatomical structure to the skin semiautoma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utomatic muscle placement based on skin and skele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oskeletal configuration reuse (template f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l geometric deformation model (defor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itself (fits into typical artist workflow, preserves artist-sculpted skin, intera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gin with an artist-sculpted character skin in the rest pose and an associated control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ised of a hierarchical set of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esh is segmented based on bones of the underlying control skelet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each skin point the ‘closest’ bone is first determined, based on a Euclidean distance metric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est bone corresponds to bone of minimal distan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ance metric can result in points being assigned to inappropriate bones – eg, torso assigned to a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a surface normal direction test: require that surface normal point away from bo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-frequency geometry problematic for surface normal test – eg, nose / ear normals point inw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cause inappropriate rej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low-frequency copy of surface normals obtained from Laplacian smoothing for surface normal te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obtain smoothed surface normals, iterate over a number of smoothing pas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mbda controls amount of smoothing per smoothing iter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can interactively manipulate parameters to obtain a ‘good’ segmentation in a few secon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53EE-F47D-405C-890F-2AE61814E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001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715920"/>
            <a:ext cx="8001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9C6D-16BD-4193-8DD6-557995F6D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04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196640"/>
            <a:ext cx="3904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3904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715920"/>
            <a:ext cx="3904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2613-19F3-4CC7-BBFD-D97AE2AA2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25761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196640"/>
            <a:ext cx="25761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196640"/>
            <a:ext cx="25761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715920"/>
            <a:ext cx="25761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715920"/>
            <a:ext cx="25761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715920"/>
            <a:ext cx="25761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8466-5391-4A10-9D44-5747C36FC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280" y="1196640"/>
            <a:ext cx="8001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83e6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001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042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960" y="1196640"/>
            <a:ext cx="39042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228240"/>
            <a:ext cx="800100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83e6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04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196640"/>
            <a:ext cx="39042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3904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196640"/>
            <a:ext cx="80010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49C6-AD62-4F0D-8D09-AEE9FA79A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042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196640"/>
            <a:ext cx="3904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960" y="3715920"/>
            <a:ext cx="3904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04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196640"/>
            <a:ext cx="3904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8001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001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280" y="3715920"/>
            <a:ext cx="8001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04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196640"/>
            <a:ext cx="3904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3904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960" y="3715920"/>
            <a:ext cx="3904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25761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1680" y="1196640"/>
            <a:ext cx="25761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080" y="1196640"/>
            <a:ext cx="25761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280" y="3715920"/>
            <a:ext cx="25761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1680" y="3715920"/>
            <a:ext cx="25761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080" y="3715920"/>
            <a:ext cx="257616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001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A9BB-1FCE-4D5A-9551-A75F8EC25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042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196640"/>
            <a:ext cx="39042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3BEDE-C7F7-4EC5-ACDB-4E62F6FEC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418D-2BA5-4665-B47A-8806E4F68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228240"/>
            <a:ext cx="800100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0E6FF-59BF-43B9-A9C3-9E69B7D77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04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196640"/>
            <a:ext cx="39042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3904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75AA-0233-4DC0-AB7D-62681C64D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042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196640"/>
            <a:ext cx="3904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715920"/>
            <a:ext cx="3904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1EE1-B35D-424E-8ED9-E31151A9C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04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196640"/>
            <a:ext cx="3904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715920"/>
            <a:ext cx="80010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06301-E0F3-4034-A077-58DF044BC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196640"/>
            <a:ext cx="8001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383e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3e6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2FC6-9063-4287-A74A-01064114AE18}" type="slidenum">
              <a:rPr b="0" lang="en-US" sz="1200" spc="-1" strike="noStrike">
                <a:solidFill>
                  <a:srgbClr val="383e6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1280" y="981000"/>
            <a:ext cx="7924680" cy="0"/>
          </a:xfrm>
          <a:prstGeom prst="line">
            <a:avLst/>
          </a:prstGeom>
          <a:ln w="3240">
            <a:solidFill>
              <a:srgbClr val="383e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9640" y="6211800"/>
            <a:ext cx="2737080" cy="51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3e68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83e68"/>
          </a:solidFill>
          <a:ln w="9360">
            <a:solidFill>
              <a:srgbClr val="383e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316400" y="4179960"/>
            <a:ext cx="4051440" cy="761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3e6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383e68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383e68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83e68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383e68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383e68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3e6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383e68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383e68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3e6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83e68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3e6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83e68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3e6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83e6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hyperlink" Target="C:\Documents and Settings\kcomplex\Desktop\map\SCA2005Pres\hiresVideos\muscleFitness640.mp4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hyperlink" Target="C:\Documents and Settings\kcomplex\Desktop\map\SCA2005Pres\hiresVideos\stickyFront640.mp4" TargetMode="External"/><Relationship Id="rId4" Type="http://schemas.openxmlformats.org/officeDocument/2006/relationships/hyperlink" Target="C:\Documents and Settings\kcomplex\Desktop\map\SCA2005Pres\hiresVideos\stickyPersp640.mp4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hyperlink" Target="C:\Documents and Settings\kcomplex\Desktop\map\SCA2005Pres\hiresVideos\dropoffFront640.mp4" TargetMode="External"/><Relationship Id="rId4" Type="http://schemas.openxmlformats.org/officeDocument/2006/relationships/hyperlink" Target="C:\Documents and Settings\kcomplex\Desktop\map\SCA2005Pres\hiresVideos\dropoffPersp640.mp4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hyperlink" Target="C:\Documents and Settings\kcomplex\Desktop\map\SCA2005Pres\hiresVideos\squelchFront640.mp4" TargetMode="External"/><Relationship Id="rId5" Type="http://schemas.openxmlformats.org/officeDocument/2006/relationships/hyperlink" Target="C:\Documents and Settings\kcomplex\Desktop\map\SCA2005Pres\hiresVideos\squelchPersp640.mp4" TargetMode="External"/><Relationship Id="rId6" Type="http://schemas.openxmlformats.org/officeDocument/2006/relationships/oleObject" Target="../embeddings/oleObject1.bin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hyperlink" Target="C:\Documents and Settings\kcomplex\Desktop\map\SCA2005Pres\hiresVideos\vertexWeightPersp640.mp4" TargetMode="External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C:\Documents and Settings\kcomplex\Desktop\map\SCA2005Pres\hiresVideos\slippagePersp640.mp4" TargetMode="External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83e68"/>
                </a:solidFill>
                <a:latin typeface="Verdana"/>
              </a:rPr>
              <a:t>Outside-In</a:t>
            </a:r>
            <a:r>
              <a:rPr b="0" lang="en-US" sz="3600" spc="-1" strike="noStrike">
                <a:solidFill>
                  <a:srgbClr val="383e68"/>
                </a:solidFill>
                <a:latin typeface="Verdana"/>
              </a:rPr>
              <a:t> Anatomy Based Character Rigging</a:t>
            </a:r>
            <a:endParaRPr b="0" lang="en-US" sz="36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3e68"/>
                </a:solidFill>
                <a:latin typeface="Verdana"/>
              </a:rPr>
              <a:t>Michael Pratscher, Patrick Coleman,</a:t>
            </a:r>
            <a:endParaRPr b="0" lang="en-US" sz="2000" spc="-1" strike="noStrike">
              <a:solidFill>
                <a:srgbClr val="383e68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3e68"/>
                </a:solidFill>
                <a:latin typeface="Verdana"/>
              </a:rPr>
              <a:t>Joe Laszlo, and Karan Singh</a:t>
            </a:r>
            <a:endParaRPr b="0" lang="en-US" sz="2000" spc="-1" strike="noStrike">
              <a:solidFill>
                <a:srgbClr val="383e6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Initial Ellipsoid Fitting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2436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Define muscle pair reference planes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Estimate muscle belly locations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3280" y="1646280"/>
            <a:ext cx="3924360" cy="39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E72D-BE65-41D4-8BFF-679E8462F1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Initial Ellipsoid Fitting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2436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Least squares fit by Gaussian distribution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Extract ellipsoid properties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383e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3e68"/>
                </a:solidFill>
                <a:latin typeface="Verdana"/>
              </a:rPr>
              <a:t>Mean -&gt; center</a:t>
            </a:r>
            <a:endParaRPr b="0" lang="en-US" sz="24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383e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3e68"/>
                </a:solidFill>
                <a:latin typeface="Verdana"/>
              </a:rPr>
              <a:t>Eigenvectors -&gt; orientation</a:t>
            </a:r>
            <a:endParaRPr b="0" lang="en-US" sz="24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383e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3e68"/>
                </a:solidFill>
                <a:latin typeface="Verdana"/>
              </a:rPr>
              <a:t>Eigenvalues -&gt; scale</a:t>
            </a:r>
            <a:endParaRPr b="0" lang="en-US" sz="2400" spc="-1" strike="noStrike">
              <a:solidFill>
                <a:srgbClr val="383e68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3280" y="1646280"/>
            <a:ext cx="3924360" cy="39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D993-1E69-424B-9AF8-9C216FC96C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Musculature Specification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2436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Fusiform muscle model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383e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3e68"/>
                </a:solidFill>
                <a:latin typeface="Verdana"/>
              </a:rPr>
              <a:t>origin </a:t>
            </a:r>
            <a:r>
              <a:rPr b="0" i="1" lang="en-US" sz="2400" spc="-1" strike="noStrike">
                <a:solidFill>
                  <a:srgbClr val="383e68"/>
                </a:solidFill>
                <a:latin typeface="Verdana"/>
              </a:rPr>
              <a:t>p</a:t>
            </a:r>
            <a:r>
              <a:rPr b="0" i="1" lang="en-US" sz="2400" spc="-1" strike="noStrike" baseline="-25000">
                <a:solidFill>
                  <a:srgbClr val="383e68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383e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3e68"/>
                </a:solidFill>
                <a:latin typeface="Verdana"/>
              </a:rPr>
              <a:t>insertion </a:t>
            </a:r>
            <a:r>
              <a:rPr b="0" i="1" lang="en-US" sz="2400" spc="-1" strike="noStrike">
                <a:solidFill>
                  <a:srgbClr val="383e68"/>
                </a:solidFill>
                <a:latin typeface="Verdana"/>
              </a:rPr>
              <a:t>p</a:t>
            </a:r>
            <a:r>
              <a:rPr b="0" i="1" lang="en-US" sz="2400" spc="-1" strike="noStrike" baseline="-25000">
                <a:solidFill>
                  <a:srgbClr val="383e68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383e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3e68"/>
                </a:solidFill>
                <a:latin typeface="Verdana"/>
              </a:rPr>
              <a:t>hinges </a:t>
            </a:r>
            <a:r>
              <a:rPr b="0" i="1" lang="en-US" sz="2400" spc="-1" strike="noStrike">
                <a:solidFill>
                  <a:srgbClr val="383e68"/>
                </a:solidFill>
                <a:latin typeface="Verdana"/>
              </a:rPr>
              <a:t>h</a:t>
            </a:r>
            <a:r>
              <a:rPr b="0" i="1" lang="en-US" sz="2400" spc="-1" strike="noStrike" baseline="-25000">
                <a:solidFill>
                  <a:srgbClr val="383e68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383e68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383e68"/>
                </a:solidFill>
                <a:latin typeface="Verdana"/>
              </a:rPr>
              <a:t>h</a:t>
            </a:r>
            <a:r>
              <a:rPr b="0" i="1" lang="en-US" sz="2400" spc="-1" strike="noStrike" baseline="-25000">
                <a:solidFill>
                  <a:srgbClr val="383e68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Ellipsoids become muscle bellies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Specified from template file or interactively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67400" y="1298520"/>
            <a:ext cx="3876480" cy="46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2947-87E1-4D5F-B2A0-F9479A2D93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Muscle Shaping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2436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Shape ellipsoid to character skin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Attenuate along length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Attenuate radially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648320" y="3809880"/>
            <a:ext cx="3924360" cy="1989000"/>
            <a:chOff x="4648320" y="3809880"/>
            <a:chExt cx="3924360" cy="198900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4648320" y="3836880"/>
              <a:ext cx="392436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102360" y="4267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7080" y="47242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09680" y="3809880"/>
              <a:ext cx="363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6405480" y="4952880"/>
              <a:ext cx="462600" cy="398880"/>
              <a:chOff x="6405480" y="4952880"/>
              <a:chExt cx="462600" cy="398880"/>
            </a:xfrm>
          </p:grpSpPr>
          <p:sp>
            <p:nvSpPr>
              <p:cNvPr id="137" name=""/>
              <p:cNvSpPr/>
              <p:nvPr/>
            </p:nvSpPr>
            <p:spPr>
              <a:xfrm flipH="1" flipV="1">
                <a:off x="6405480" y="496836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559200" y="4952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43280" y="1390680"/>
            <a:ext cx="3924360" cy="196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609480" y="3247920"/>
          <a:ext cx="386712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247920"/>
                    <a:ext cx="38671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295280" y="4876920"/>
          <a:ext cx="2590920" cy="66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876920"/>
                    <a:ext cx="25909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DA6D-EB7A-4728-A284-FE2960B9CB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66280" y="1196640"/>
            <a:ext cx="8001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Part II: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Anatomy-Driven Deformation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CBD2-4999-4314-A0A2-C20B8368D1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Muscle Deformation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2436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Driven by skeletal animation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Preserves ellipsoidal volume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Muscle </a:t>
            </a:r>
            <a:r>
              <a:rPr b="0" i="1" lang="en-US" sz="2800" spc="-1" strike="noStrike">
                <a:solidFill>
                  <a:srgbClr val="383e68"/>
                </a:solidFill>
                <a:latin typeface="Verdana"/>
              </a:rPr>
              <a:t>tone</a:t>
            </a: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 parameter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43280" y="1646280"/>
            <a:ext cx="3924360" cy="39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609480" y="5256360"/>
          <a:ext cx="3886200" cy="53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256360"/>
                    <a:ext cx="3886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>
            <a:hlinkClick r:id="rId4"/>
          </p:cNvPr>
          <p:cNvSpPr/>
          <p:nvPr/>
        </p:nvSpPr>
        <p:spPr>
          <a:xfrm>
            <a:off x="6095880" y="5638680"/>
            <a:ext cx="1043280" cy="509760"/>
          </a:xfrm>
          <a:custGeom>
            <a:avLst/>
            <a:gdLst>
              <a:gd name="textAreaLeft" fmla="*/ 32760 w 1043280"/>
              <a:gd name="textAreaRight" fmla="*/ 1010520 w 104328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91" h="21600">
                <a:moveTo>
                  <a:pt x="0" y="0"/>
                </a:moveTo>
                <a:lnTo>
                  <a:pt x="44191" y="0"/>
                </a:lnTo>
                <a:lnTo>
                  <a:pt x="44191" y="21600"/>
                </a:lnTo>
                <a:lnTo>
                  <a:pt x="0" y="21600"/>
                </a:lnTo>
                <a:close/>
              </a:path>
              <a:path fill="lightenLess" w="44191" h="21600">
                <a:moveTo>
                  <a:pt x="0" y="0"/>
                </a:moveTo>
                <a:lnTo>
                  <a:pt x="44191" y="0"/>
                </a:lnTo>
                <a:lnTo>
                  <a:pt x="42791" y="1400"/>
                </a:lnTo>
                <a:lnTo>
                  <a:pt x="1400" y="1400"/>
                </a:lnTo>
                <a:close/>
              </a:path>
              <a:path fill="darken" w="44191" h="21600">
                <a:moveTo>
                  <a:pt x="44191" y="0"/>
                </a:moveTo>
                <a:lnTo>
                  <a:pt x="44191" y="21600"/>
                </a:lnTo>
                <a:lnTo>
                  <a:pt x="42791" y="20200"/>
                </a:lnTo>
                <a:lnTo>
                  <a:pt x="42791" y="1400"/>
                </a:lnTo>
                <a:close/>
              </a:path>
              <a:path fill="darkenLess" w="44191" h="21600">
                <a:moveTo>
                  <a:pt x="44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91" y="20200"/>
                </a:lnTo>
                <a:close/>
              </a:path>
              <a:path fill="lighten" w="44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91" h="21600">
                <a:moveTo>
                  <a:pt x="15089" y="7301"/>
                </a:moveTo>
                <a:lnTo>
                  <a:pt x="16003" y="7301"/>
                </a:lnTo>
                <a:lnTo>
                  <a:pt x="16386" y="7667"/>
                </a:lnTo>
                <a:lnTo>
                  <a:pt x="25594" y="7667"/>
                </a:lnTo>
                <a:lnTo>
                  <a:pt x="26151" y="8224"/>
                </a:lnTo>
                <a:lnTo>
                  <a:pt x="26151" y="8772"/>
                </a:lnTo>
                <a:lnTo>
                  <a:pt x="27997" y="8772"/>
                </a:lnTo>
                <a:lnTo>
                  <a:pt x="28362" y="8224"/>
                </a:lnTo>
                <a:lnTo>
                  <a:pt x="29102" y="8224"/>
                </a:lnTo>
                <a:lnTo>
                  <a:pt x="29102" y="13376"/>
                </a:lnTo>
                <a:lnTo>
                  <a:pt x="28362" y="13376"/>
                </a:lnTo>
                <a:lnTo>
                  <a:pt x="27997" y="12828"/>
                </a:lnTo>
                <a:lnTo>
                  <a:pt x="26151" y="12828"/>
                </a:lnTo>
                <a:lnTo>
                  <a:pt x="26151" y="14107"/>
                </a:lnTo>
                <a:lnTo>
                  <a:pt x="16569" y="14107"/>
                </a:lnTo>
                <a:lnTo>
                  <a:pt x="16569" y="9877"/>
                </a:lnTo>
                <a:lnTo>
                  <a:pt x="16386" y="9877"/>
                </a:lnTo>
                <a:lnTo>
                  <a:pt x="16003" y="10243"/>
                </a:lnTo>
                <a:lnTo>
                  <a:pt x="15089" y="10243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D80E-6886-43FB-B3A7-3DC17488CB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Radial Geometric Deformation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001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Based upon unit sphere and  spherical shells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Computed in local space and      radial relative to unit sphere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Allows surface stretching and deformation by arbitrary shapes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D5D46-0250-42B7-90E8-35E043789C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4643280" y="1644480"/>
            <a:ext cx="3903840" cy="3903840"/>
            <a:chOff x="4643280" y="1644480"/>
            <a:chExt cx="3903840" cy="390384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4643280" y="1644480"/>
              <a:ext cx="3903840" cy="390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"/>
            <p:cNvGrpSpPr/>
            <p:nvPr/>
          </p:nvGrpSpPr>
          <p:grpSpPr>
            <a:xfrm>
              <a:off x="4724640" y="1724040"/>
              <a:ext cx="1295280" cy="1163520"/>
              <a:chOff x="4724640" y="1724040"/>
              <a:chExt cx="1295280" cy="1163520"/>
            </a:xfrm>
          </p:grpSpPr>
          <p:sp>
            <p:nvSpPr>
              <p:cNvPr id="156" name=""/>
              <p:cNvSpPr/>
              <p:nvPr/>
            </p:nvSpPr>
            <p:spPr>
              <a:xfrm>
                <a:off x="4724640" y="1724040"/>
                <a:ext cx="1031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stick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57800" y="2209680"/>
                <a:ext cx="762120" cy="677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Radial Geometric Deformation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2436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Sticky shell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Surface towards which points deform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43280" y="1644480"/>
            <a:ext cx="3903840" cy="39038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3"/>
          </p:cNvPr>
          <p:cNvSpPr/>
          <p:nvPr/>
        </p:nvSpPr>
        <p:spPr>
          <a:xfrm>
            <a:off x="5052960" y="5638680"/>
            <a:ext cx="1042920" cy="50976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76" h="21600">
                <a:moveTo>
                  <a:pt x="0" y="0"/>
                </a:moveTo>
                <a:lnTo>
                  <a:pt x="44176" y="0"/>
                </a:lnTo>
                <a:lnTo>
                  <a:pt x="44176" y="21600"/>
                </a:lnTo>
                <a:lnTo>
                  <a:pt x="0" y="21600"/>
                </a:lnTo>
                <a:close/>
              </a:path>
              <a:path fill="lightenLess" w="44176" h="21600">
                <a:moveTo>
                  <a:pt x="0" y="0"/>
                </a:moveTo>
                <a:lnTo>
                  <a:pt x="44176" y="0"/>
                </a:lnTo>
                <a:lnTo>
                  <a:pt x="42776" y="1400"/>
                </a:lnTo>
                <a:lnTo>
                  <a:pt x="1400" y="1400"/>
                </a:lnTo>
                <a:close/>
              </a:path>
              <a:path fill="darken" w="44176" h="21600">
                <a:moveTo>
                  <a:pt x="44176" y="0"/>
                </a:moveTo>
                <a:lnTo>
                  <a:pt x="44176" y="21600"/>
                </a:lnTo>
                <a:lnTo>
                  <a:pt x="42776" y="20200"/>
                </a:lnTo>
                <a:lnTo>
                  <a:pt x="42776" y="1400"/>
                </a:lnTo>
                <a:close/>
              </a:path>
              <a:path fill="darkenLess" w="44176" h="21600">
                <a:moveTo>
                  <a:pt x="44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76" y="20200"/>
                </a:lnTo>
                <a:close/>
              </a:path>
              <a:path fill="lighten" w="44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76" h="21600">
                <a:moveTo>
                  <a:pt x="15081" y="7301"/>
                </a:moveTo>
                <a:lnTo>
                  <a:pt x="15995" y="7301"/>
                </a:lnTo>
                <a:lnTo>
                  <a:pt x="16378" y="7667"/>
                </a:lnTo>
                <a:lnTo>
                  <a:pt x="25587" y="7667"/>
                </a:lnTo>
                <a:lnTo>
                  <a:pt x="26144" y="8224"/>
                </a:lnTo>
                <a:lnTo>
                  <a:pt x="26144" y="8772"/>
                </a:lnTo>
                <a:lnTo>
                  <a:pt x="27989" y="8772"/>
                </a:lnTo>
                <a:lnTo>
                  <a:pt x="28354" y="8224"/>
                </a:lnTo>
                <a:lnTo>
                  <a:pt x="29094" y="8224"/>
                </a:lnTo>
                <a:lnTo>
                  <a:pt x="29094" y="13376"/>
                </a:lnTo>
                <a:lnTo>
                  <a:pt x="28354" y="13376"/>
                </a:lnTo>
                <a:lnTo>
                  <a:pt x="27989" y="12828"/>
                </a:lnTo>
                <a:lnTo>
                  <a:pt x="26144" y="12828"/>
                </a:lnTo>
                <a:lnTo>
                  <a:pt x="26144" y="14107"/>
                </a:lnTo>
                <a:lnTo>
                  <a:pt x="16561" y="14107"/>
                </a:lnTo>
                <a:lnTo>
                  <a:pt x="16561" y="9877"/>
                </a:lnTo>
                <a:lnTo>
                  <a:pt x="16378" y="9877"/>
                </a:lnTo>
                <a:lnTo>
                  <a:pt x="15995" y="10243"/>
                </a:lnTo>
                <a:lnTo>
                  <a:pt x="15081" y="10243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4"/>
          </p:cNvPr>
          <p:cNvSpPr/>
          <p:nvPr/>
        </p:nvSpPr>
        <p:spPr>
          <a:xfrm>
            <a:off x="7086600" y="5638680"/>
            <a:ext cx="1042920" cy="50976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76" h="21600">
                <a:moveTo>
                  <a:pt x="0" y="0"/>
                </a:moveTo>
                <a:lnTo>
                  <a:pt x="44176" y="0"/>
                </a:lnTo>
                <a:lnTo>
                  <a:pt x="44176" y="21600"/>
                </a:lnTo>
                <a:lnTo>
                  <a:pt x="0" y="21600"/>
                </a:lnTo>
                <a:close/>
              </a:path>
              <a:path fill="lightenLess" w="44176" h="21600">
                <a:moveTo>
                  <a:pt x="0" y="0"/>
                </a:moveTo>
                <a:lnTo>
                  <a:pt x="44176" y="0"/>
                </a:lnTo>
                <a:lnTo>
                  <a:pt x="42776" y="1400"/>
                </a:lnTo>
                <a:lnTo>
                  <a:pt x="1400" y="1400"/>
                </a:lnTo>
                <a:close/>
              </a:path>
              <a:path fill="darken" w="44176" h="21600">
                <a:moveTo>
                  <a:pt x="44176" y="0"/>
                </a:moveTo>
                <a:lnTo>
                  <a:pt x="44176" y="21600"/>
                </a:lnTo>
                <a:lnTo>
                  <a:pt x="42776" y="20200"/>
                </a:lnTo>
                <a:lnTo>
                  <a:pt x="42776" y="1400"/>
                </a:lnTo>
                <a:close/>
              </a:path>
              <a:path fill="darkenLess" w="44176" h="21600">
                <a:moveTo>
                  <a:pt x="44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76" y="20200"/>
                </a:lnTo>
                <a:close/>
              </a:path>
              <a:path fill="lighten" w="44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76" h="21600">
                <a:moveTo>
                  <a:pt x="15081" y="7301"/>
                </a:moveTo>
                <a:lnTo>
                  <a:pt x="15995" y="7301"/>
                </a:lnTo>
                <a:lnTo>
                  <a:pt x="16378" y="7667"/>
                </a:lnTo>
                <a:lnTo>
                  <a:pt x="25587" y="7667"/>
                </a:lnTo>
                <a:lnTo>
                  <a:pt x="26144" y="8224"/>
                </a:lnTo>
                <a:lnTo>
                  <a:pt x="26144" y="8772"/>
                </a:lnTo>
                <a:lnTo>
                  <a:pt x="27989" y="8772"/>
                </a:lnTo>
                <a:lnTo>
                  <a:pt x="28354" y="8224"/>
                </a:lnTo>
                <a:lnTo>
                  <a:pt x="29094" y="8224"/>
                </a:lnTo>
                <a:lnTo>
                  <a:pt x="29094" y="13376"/>
                </a:lnTo>
                <a:lnTo>
                  <a:pt x="28354" y="13376"/>
                </a:lnTo>
                <a:lnTo>
                  <a:pt x="27989" y="12828"/>
                </a:lnTo>
                <a:lnTo>
                  <a:pt x="26144" y="12828"/>
                </a:lnTo>
                <a:lnTo>
                  <a:pt x="26144" y="14107"/>
                </a:lnTo>
                <a:lnTo>
                  <a:pt x="16561" y="14107"/>
                </a:lnTo>
                <a:lnTo>
                  <a:pt x="16561" y="9877"/>
                </a:lnTo>
                <a:lnTo>
                  <a:pt x="16378" y="9877"/>
                </a:lnTo>
                <a:lnTo>
                  <a:pt x="15995" y="10243"/>
                </a:lnTo>
                <a:lnTo>
                  <a:pt x="15081" y="10243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62120" y="2451240"/>
          <a:ext cx="3581280" cy="67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451240"/>
                    <a:ext cx="358128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76C3-FA38-406A-B787-94D599E17C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4643280" y="1538280"/>
            <a:ext cx="3903840" cy="4010040"/>
            <a:chOff x="4643280" y="1538280"/>
            <a:chExt cx="3903840" cy="401004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4643280" y="1644480"/>
              <a:ext cx="3903840" cy="390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7" name=""/>
            <p:cNvGrpSpPr/>
            <p:nvPr/>
          </p:nvGrpSpPr>
          <p:grpSpPr>
            <a:xfrm>
              <a:off x="4724640" y="1724040"/>
              <a:ext cx="1295280" cy="1163520"/>
              <a:chOff x="4724640" y="1724040"/>
              <a:chExt cx="1295280" cy="1163520"/>
            </a:xfrm>
          </p:grpSpPr>
          <p:sp>
            <p:nvSpPr>
              <p:cNvPr id="168" name=""/>
              <p:cNvSpPr/>
              <p:nvPr/>
            </p:nvSpPr>
            <p:spPr>
              <a:xfrm>
                <a:off x="4724640" y="1724040"/>
                <a:ext cx="1031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stick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257800" y="2209680"/>
                <a:ext cx="762120" cy="677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64000" y="1538280"/>
              <a:ext cx="1369440" cy="824040"/>
              <a:chOff x="7164000" y="1538280"/>
              <a:chExt cx="1369440" cy="824040"/>
            </a:xfrm>
          </p:grpSpPr>
          <p:sp>
            <p:nvSpPr>
              <p:cNvPr id="171" name=""/>
              <p:cNvSpPr/>
              <p:nvPr/>
            </p:nvSpPr>
            <p:spPr>
              <a:xfrm>
                <a:off x="7164000" y="1538280"/>
                <a:ext cx="136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drop-of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7797960" y="1981080"/>
                <a:ext cx="20304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643280" y="1644480"/>
            <a:ext cx="3903840" cy="39038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Radial Geometric Deformation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2436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Drop-off shell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Outer boundary of deformation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176" name="">
            <a:hlinkClick r:id="rId3"/>
          </p:cNvPr>
          <p:cNvSpPr/>
          <p:nvPr/>
        </p:nvSpPr>
        <p:spPr>
          <a:xfrm>
            <a:off x="5052960" y="5638680"/>
            <a:ext cx="1042920" cy="50976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76" h="21600">
                <a:moveTo>
                  <a:pt x="0" y="0"/>
                </a:moveTo>
                <a:lnTo>
                  <a:pt x="44176" y="0"/>
                </a:lnTo>
                <a:lnTo>
                  <a:pt x="44176" y="21600"/>
                </a:lnTo>
                <a:lnTo>
                  <a:pt x="0" y="21600"/>
                </a:lnTo>
                <a:close/>
              </a:path>
              <a:path fill="lightenLess" w="44176" h="21600">
                <a:moveTo>
                  <a:pt x="0" y="0"/>
                </a:moveTo>
                <a:lnTo>
                  <a:pt x="44176" y="0"/>
                </a:lnTo>
                <a:lnTo>
                  <a:pt x="42776" y="1400"/>
                </a:lnTo>
                <a:lnTo>
                  <a:pt x="1400" y="1400"/>
                </a:lnTo>
                <a:close/>
              </a:path>
              <a:path fill="darken" w="44176" h="21600">
                <a:moveTo>
                  <a:pt x="44176" y="0"/>
                </a:moveTo>
                <a:lnTo>
                  <a:pt x="44176" y="21600"/>
                </a:lnTo>
                <a:lnTo>
                  <a:pt x="42776" y="20200"/>
                </a:lnTo>
                <a:lnTo>
                  <a:pt x="42776" y="1400"/>
                </a:lnTo>
                <a:close/>
              </a:path>
              <a:path fill="darkenLess" w="44176" h="21600">
                <a:moveTo>
                  <a:pt x="44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76" y="20200"/>
                </a:lnTo>
                <a:close/>
              </a:path>
              <a:path fill="lighten" w="44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76" h="21600">
                <a:moveTo>
                  <a:pt x="15081" y="7301"/>
                </a:moveTo>
                <a:lnTo>
                  <a:pt x="15995" y="7301"/>
                </a:lnTo>
                <a:lnTo>
                  <a:pt x="16378" y="7667"/>
                </a:lnTo>
                <a:lnTo>
                  <a:pt x="25587" y="7667"/>
                </a:lnTo>
                <a:lnTo>
                  <a:pt x="26144" y="8224"/>
                </a:lnTo>
                <a:lnTo>
                  <a:pt x="26144" y="8772"/>
                </a:lnTo>
                <a:lnTo>
                  <a:pt x="27989" y="8772"/>
                </a:lnTo>
                <a:lnTo>
                  <a:pt x="28354" y="8224"/>
                </a:lnTo>
                <a:lnTo>
                  <a:pt x="29094" y="8224"/>
                </a:lnTo>
                <a:lnTo>
                  <a:pt x="29094" y="13376"/>
                </a:lnTo>
                <a:lnTo>
                  <a:pt x="28354" y="13376"/>
                </a:lnTo>
                <a:lnTo>
                  <a:pt x="27989" y="12828"/>
                </a:lnTo>
                <a:lnTo>
                  <a:pt x="26144" y="12828"/>
                </a:lnTo>
                <a:lnTo>
                  <a:pt x="26144" y="14107"/>
                </a:lnTo>
                <a:lnTo>
                  <a:pt x="16561" y="14107"/>
                </a:lnTo>
                <a:lnTo>
                  <a:pt x="16561" y="9877"/>
                </a:lnTo>
                <a:lnTo>
                  <a:pt x="16378" y="9877"/>
                </a:lnTo>
                <a:lnTo>
                  <a:pt x="15995" y="10243"/>
                </a:lnTo>
                <a:lnTo>
                  <a:pt x="15081" y="10243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4"/>
          </p:cNvPr>
          <p:cNvSpPr/>
          <p:nvPr/>
        </p:nvSpPr>
        <p:spPr>
          <a:xfrm>
            <a:off x="7086600" y="5638680"/>
            <a:ext cx="1042920" cy="50976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76" h="21600">
                <a:moveTo>
                  <a:pt x="0" y="0"/>
                </a:moveTo>
                <a:lnTo>
                  <a:pt x="44176" y="0"/>
                </a:lnTo>
                <a:lnTo>
                  <a:pt x="44176" y="21600"/>
                </a:lnTo>
                <a:lnTo>
                  <a:pt x="0" y="21600"/>
                </a:lnTo>
                <a:close/>
              </a:path>
              <a:path fill="lightenLess" w="44176" h="21600">
                <a:moveTo>
                  <a:pt x="0" y="0"/>
                </a:moveTo>
                <a:lnTo>
                  <a:pt x="44176" y="0"/>
                </a:lnTo>
                <a:lnTo>
                  <a:pt x="42776" y="1400"/>
                </a:lnTo>
                <a:lnTo>
                  <a:pt x="1400" y="1400"/>
                </a:lnTo>
                <a:close/>
              </a:path>
              <a:path fill="darken" w="44176" h="21600">
                <a:moveTo>
                  <a:pt x="44176" y="0"/>
                </a:moveTo>
                <a:lnTo>
                  <a:pt x="44176" y="21600"/>
                </a:lnTo>
                <a:lnTo>
                  <a:pt x="42776" y="20200"/>
                </a:lnTo>
                <a:lnTo>
                  <a:pt x="42776" y="1400"/>
                </a:lnTo>
                <a:close/>
              </a:path>
              <a:path fill="darkenLess" w="44176" h="21600">
                <a:moveTo>
                  <a:pt x="44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76" y="20200"/>
                </a:lnTo>
                <a:close/>
              </a:path>
              <a:path fill="lighten" w="44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76" h="21600">
                <a:moveTo>
                  <a:pt x="15081" y="7301"/>
                </a:moveTo>
                <a:lnTo>
                  <a:pt x="15995" y="7301"/>
                </a:lnTo>
                <a:lnTo>
                  <a:pt x="16378" y="7667"/>
                </a:lnTo>
                <a:lnTo>
                  <a:pt x="25587" y="7667"/>
                </a:lnTo>
                <a:lnTo>
                  <a:pt x="26144" y="8224"/>
                </a:lnTo>
                <a:lnTo>
                  <a:pt x="26144" y="8772"/>
                </a:lnTo>
                <a:lnTo>
                  <a:pt x="27989" y="8772"/>
                </a:lnTo>
                <a:lnTo>
                  <a:pt x="28354" y="8224"/>
                </a:lnTo>
                <a:lnTo>
                  <a:pt x="29094" y="8224"/>
                </a:lnTo>
                <a:lnTo>
                  <a:pt x="29094" y="13376"/>
                </a:lnTo>
                <a:lnTo>
                  <a:pt x="28354" y="13376"/>
                </a:lnTo>
                <a:lnTo>
                  <a:pt x="27989" y="12828"/>
                </a:lnTo>
                <a:lnTo>
                  <a:pt x="26144" y="12828"/>
                </a:lnTo>
                <a:lnTo>
                  <a:pt x="26144" y="14107"/>
                </a:lnTo>
                <a:lnTo>
                  <a:pt x="16561" y="14107"/>
                </a:lnTo>
                <a:lnTo>
                  <a:pt x="16561" y="9877"/>
                </a:lnTo>
                <a:lnTo>
                  <a:pt x="16378" y="9877"/>
                </a:lnTo>
                <a:lnTo>
                  <a:pt x="15995" y="10243"/>
                </a:lnTo>
                <a:lnTo>
                  <a:pt x="15081" y="10243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43000" y="2428920"/>
          <a:ext cx="2809800" cy="69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428920"/>
                    <a:ext cx="28098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C97B-1674-4E0F-825A-68B2AD8EFC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4643280" y="1538280"/>
            <a:ext cx="3903840" cy="4010040"/>
            <a:chOff x="4643280" y="1538280"/>
            <a:chExt cx="3903840" cy="401004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4643280" y="1644480"/>
              <a:ext cx="3903840" cy="390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"/>
            <p:cNvGrpSpPr/>
            <p:nvPr/>
          </p:nvGrpSpPr>
          <p:grpSpPr>
            <a:xfrm>
              <a:off x="4724640" y="1724040"/>
              <a:ext cx="1295280" cy="1163520"/>
              <a:chOff x="4724640" y="1724040"/>
              <a:chExt cx="1295280" cy="1163520"/>
            </a:xfrm>
          </p:grpSpPr>
          <p:sp>
            <p:nvSpPr>
              <p:cNvPr id="183" name=""/>
              <p:cNvSpPr/>
              <p:nvPr/>
            </p:nvSpPr>
            <p:spPr>
              <a:xfrm>
                <a:off x="4724640" y="1724040"/>
                <a:ext cx="1031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stick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257800" y="2209680"/>
                <a:ext cx="762120" cy="677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7164000" y="1538280"/>
              <a:ext cx="1369440" cy="824040"/>
              <a:chOff x="7164000" y="1538280"/>
              <a:chExt cx="1369440" cy="824040"/>
            </a:xfrm>
          </p:grpSpPr>
          <p:sp>
            <p:nvSpPr>
              <p:cNvPr id="186" name=""/>
              <p:cNvSpPr/>
              <p:nvPr/>
            </p:nvSpPr>
            <p:spPr>
              <a:xfrm>
                <a:off x="7164000" y="1538280"/>
                <a:ext cx="136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drop-of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7797960" y="1981080"/>
                <a:ext cx="20304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725720" y="4038480"/>
              <a:ext cx="1370160" cy="1434960"/>
              <a:chOff x="4725720" y="4038480"/>
              <a:chExt cx="1370160" cy="1434960"/>
            </a:xfrm>
          </p:grpSpPr>
          <p:sp>
            <p:nvSpPr>
              <p:cNvPr id="189" name=""/>
              <p:cNvSpPr/>
              <p:nvPr/>
            </p:nvSpPr>
            <p:spPr>
              <a:xfrm>
                <a:off x="4725720" y="4952880"/>
                <a:ext cx="813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har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5181480" y="4038480"/>
                <a:ext cx="914400" cy="106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643280" y="1644480"/>
            <a:ext cx="3903840" cy="39038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643280" y="1644480"/>
            <a:ext cx="3903840" cy="39038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Radial Geometric Deformation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2436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Hard shell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675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83e68"/>
                </a:solidFill>
                <a:latin typeface="Verdana"/>
              </a:rPr>
              <a:t>Attenuation region (together with drop-off shell)</a:t>
            </a:r>
            <a:endParaRPr b="0" lang="en-US" sz="27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195" name="">
            <a:hlinkClick r:id="rId4"/>
          </p:cNvPr>
          <p:cNvSpPr/>
          <p:nvPr/>
        </p:nvSpPr>
        <p:spPr>
          <a:xfrm>
            <a:off x="5052960" y="5638680"/>
            <a:ext cx="1042920" cy="50976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76" h="21600">
                <a:moveTo>
                  <a:pt x="0" y="0"/>
                </a:moveTo>
                <a:lnTo>
                  <a:pt x="44176" y="0"/>
                </a:lnTo>
                <a:lnTo>
                  <a:pt x="44176" y="21600"/>
                </a:lnTo>
                <a:lnTo>
                  <a:pt x="0" y="21600"/>
                </a:lnTo>
                <a:close/>
              </a:path>
              <a:path fill="lightenLess" w="44176" h="21600">
                <a:moveTo>
                  <a:pt x="0" y="0"/>
                </a:moveTo>
                <a:lnTo>
                  <a:pt x="44176" y="0"/>
                </a:lnTo>
                <a:lnTo>
                  <a:pt x="42776" y="1400"/>
                </a:lnTo>
                <a:lnTo>
                  <a:pt x="1400" y="1400"/>
                </a:lnTo>
                <a:close/>
              </a:path>
              <a:path fill="darken" w="44176" h="21600">
                <a:moveTo>
                  <a:pt x="44176" y="0"/>
                </a:moveTo>
                <a:lnTo>
                  <a:pt x="44176" y="21600"/>
                </a:lnTo>
                <a:lnTo>
                  <a:pt x="42776" y="20200"/>
                </a:lnTo>
                <a:lnTo>
                  <a:pt x="42776" y="1400"/>
                </a:lnTo>
                <a:close/>
              </a:path>
              <a:path fill="darkenLess" w="44176" h="21600">
                <a:moveTo>
                  <a:pt x="44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76" y="20200"/>
                </a:lnTo>
                <a:close/>
              </a:path>
              <a:path fill="lighten" w="44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76" h="21600">
                <a:moveTo>
                  <a:pt x="15081" y="7301"/>
                </a:moveTo>
                <a:lnTo>
                  <a:pt x="15995" y="7301"/>
                </a:lnTo>
                <a:lnTo>
                  <a:pt x="16378" y="7667"/>
                </a:lnTo>
                <a:lnTo>
                  <a:pt x="25587" y="7667"/>
                </a:lnTo>
                <a:lnTo>
                  <a:pt x="26144" y="8224"/>
                </a:lnTo>
                <a:lnTo>
                  <a:pt x="26144" y="8772"/>
                </a:lnTo>
                <a:lnTo>
                  <a:pt x="27989" y="8772"/>
                </a:lnTo>
                <a:lnTo>
                  <a:pt x="28354" y="8224"/>
                </a:lnTo>
                <a:lnTo>
                  <a:pt x="29094" y="8224"/>
                </a:lnTo>
                <a:lnTo>
                  <a:pt x="29094" y="13376"/>
                </a:lnTo>
                <a:lnTo>
                  <a:pt x="28354" y="13376"/>
                </a:lnTo>
                <a:lnTo>
                  <a:pt x="27989" y="12828"/>
                </a:lnTo>
                <a:lnTo>
                  <a:pt x="26144" y="12828"/>
                </a:lnTo>
                <a:lnTo>
                  <a:pt x="26144" y="14107"/>
                </a:lnTo>
                <a:lnTo>
                  <a:pt x="16561" y="14107"/>
                </a:lnTo>
                <a:lnTo>
                  <a:pt x="16561" y="9877"/>
                </a:lnTo>
                <a:lnTo>
                  <a:pt x="16378" y="9877"/>
                </a:lnTo>
                <a:lnTo>
                  <a:pt x="15995" y="10243"/>
                </a:lnTo>
                <a:lnTo>
                  <a:pt x="15081" y="10243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5"/>
          </p:cNvPr>
          <p:cNvSpPr/>
          <p:nvPr/>
        </p:nvSpPr>
        <p:spPr>
          <a:xfrm>
            <a:off x="7086600" y="5638680"/>
            <a:ext cx="1042920" cy="50976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76" h="21600">
                <a:moveTo>
                  <a:pt x="0" y="0"/>
                </a:moveTo>
                <a:lnTo>
                  <a:pt x="44176" y="0"/>
                </a:lnTo>
                <a:lnTo>
                  <a:pt x="44176" y="21600"/>
                </a:lnTo>
                <a:lnTo>
                  <a:pt x="0" y="21600"/>
                </a:lnTo>
                <a:close/>
              </a:path>
              <a:path fill="lightenLess" w="44176" h="21600">
                <a:moveTo>
                  <a:pt x="0" y="0"/>
                </a:moveTo>
                <a:lnTo>
                  <a:pt x="44176" y="0"/>
                </a:lnTo>
                <a:lnTo>
                  <a:pt x="42776" y="1400"/>
                </a:lnTo>
                <a:lnTo>
                  <a:pt x="1400" y="1400"/>
                </a:lnTo>
                <a:close/>
              </a:path>
              <a:path fill="darken" w="44176" h="21600">
                <a:moveTo>
                  <a:pt x="44176" y="0"/>
                </a:moveTo>
                <a:lnTo>
                  <a:pt x="44176" y="21600"/>
                </a:lnTo>
                <a:lnTo>
                  <a:pt x="42776" y="20200"/>
                </a:lnTo>
                <a:lnTo>
                  <a:pt x="42776" y="1400"/>
                </a:lnTo>
                <a:close/>
              </a:path>
              <a:path fill="darkenLess" w="44176" h="21600">
                <a:moveTo>
                  <a:pt x="44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76" y="20200"/>
                </a:lnTo>
                <a:close/>
              </a:path>
              <a:path fill="lighten" w="44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76" h="21600">
                <a:moveTo>
                  <a:pt x="15081" y="7301"/>
                </a:moveTo>
                <a:lnTo>
                  <a:pt x="15995" y="7301"/>
                </a:lnTo>
                <a:lnTo>
                  <a:pt x="16378" y="7667"/>
                </a:lnTo>
                <a:lnTo>
                  <a:pt x="25587" y="7667"/>
                </a:lnTo>
                <a:lnTo>
                  <a:pt x="26144" y="8224"/>
                </a:lnTo>
                <a:lnTo>
                  <a:pt x="26144" y="8772"/>
                </a:lnTo>
                <a:lnTo>
                  <a:pt x="27989" y="8772"/>
                </a:lnTo>
                <a:lnTo>
                  <a:pt x="28354" y="8224"/>
                </a:lnTo>
                <a:lnTo>
                  <a:pt x="29094" y="8224"/>
                </a:lnTo>
                <a:lnTo>
                  <a:pt x="29094" y="13376"/>
                </a:lnTo>
                <a:lnTo>
                  <a:pt x="28354" y="13376"/>
                </a:lnTo>
                <a:lnTo>
                  <a:pt x="27989" y="12828"/>
                </a:lnTo>
                <a:lnTo>
                  <a:pt x="26144" y="12828"/>
                </a:lnTo>
                <a:lnTo>
                  <a:pt x="26144" y="14107"/>
                </a:lnTo>
                <a:lnTo>
                  <a:pt x="16561" y="14107"/>
                </a:lnTo>
                <a:lnTo>
                  <a:pt x="16561" y="9877"/>
                </a:lnTo>
                <a:lnTo>
                  <a:pt x="16378" y="9877"/>
                </a:lnTo>
                <a:lnTo>
                  <a:pt x="15995" y="10243"/>
                </a:lnTo>
                <a:lnTo>
                  <a:pt x="15081" y="10243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219320" y="2435400"/>
          <a:ext cx="2666880" cy="61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2435400"/>
                    <a:ext cx="26668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3890-736F-47AC-A5F8-F6B4A4F99E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Motivation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001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Believable animation should capture </a:t>
            </a:r>
            <a:r>
              <a:rPr b="0" i="1" lang="en-US" sz="3000" spc="-1" strike="noStrike">
                <a:solidFill>
                  <a:srgbClr val="383e68"/>
                </a:solidFill>
                <a:latin typeface="Verdana"/>
              </a:rPr>
              <a:t>muscular nuances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Constructing musculature needs to be </a:t>
            </a:r>
            <a:r>
              <a:rPr b="0" i="1" lang="en-US" sz="3000" spc="-1" strike="noStrike">
                <a:solidFill>
                  <a:srgbClr val="383e68"/>
                </a:solidFill>
                <a:latin typeface="Verdana"/>
              </a:rPr>
              <a:t>faster and easier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Animator should have direct </a:t>
            </a:r>
            <a:r>
              <a:rPr b="0" i="1" lang="en-US" sz="3000" spc="-1" strike="noStrike">
                <a:solidFill>
                  <a:srgbClr val="383e68"/>
                </a:solidFill>
                <a:latin typeface="Verdana"/>
              </a:rPr>
              <a:t>interactive</a:t>
            </a: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 control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5DEA9-666A-4EDC-B329-CEEC0302B0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Radial Geometric Deformation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2436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Per-deformer weight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383e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3e68"/>
                </a:solidFill>
                <a:latin typeface="Verdana"/>
              </a:rPr>
              <a:t>Scales effect of a single deformer</a:t>
            </a:r>
            <a:endParaRPr b="0" lang="en-US" sz="24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Per-vertex weight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383e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3e68"/>
                </a:solidFill>
                <a:latin typeface="Verdana"/>
              </a:rPr>
              <a:t>Scales deformation per vertex</a:t>
            </a:r>
            <a:endParaRPr b="0" lang="en-US" sz="2400" spc="-1" strike="noStrike">
              <a:solidFill>
                <a:srgbClr val="383e68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437080" y="1197000"/>
            <a:ext cx="2335320" cy="2335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437080" y="3684600"/>
            <a:ext cx="2335320" cy="233532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3"/>
          </p:cNvPr>
          <p:cNvSpPr/>
          <p:nvPr/>
        </p:nvSpPr>
        <p:spPr>
          <a:xfrm>
            <a:off x="2004840" y="5638680"/>
            <a:ext cx="1043280" cy="509760"/>
          </a:xfrm>
          <a:custGeom>
            <a:avLst/>
            <a:gdLst>
              <a:gd name="textAreaLeft" fmla="*/ 32760 w 1043280"/>
              <a:gd name="textAreaRight" fmla="*/ 1010520 w 104328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91" h="21600">
                <a:moveTo>
                  <a:pt x="0" y="0"/>
                </a:moveTo>
                <a:lnTo>
                  <a:pt x="44191" y="0"/>
                </a:lnTo>
                <a:lnTo>
                  <a:pt x="44191" y="21600"/>
                </a:lnTo>
                <a:lnTo>
                  <a:pt x="0" y="21600"/>
                </a:lnTo>
                <a:close/>
              </a:path>
              <a:path fill="lightenLess" w="44191" h="21600">
                <a:moveTo>
                  <a:pt x="0" y="0"/>
                </a:moveTo>
                <a:lnTo>
                  <a:pt x="44191" y="0"/>
                </a:lnTo>
                <a:lnTo>
                  <a:pt x="42791" y="1400"/>
                </a:lnTo>
                <a:lnTo>
                  <a:pt x="1400" y="1400"/>
                </a:lnTo>
                <a:close/>
              </a:path>
              <a:path fill="darken" w="44191" h="21600">
                <a:moveTo>
                  <a:pt x="44191" y="0"/>
                </a:moveTo>
                <a:lnTo>
                  <a:pt x="44191" y="21600"/>
                </a:lnTo>
                <a:lnTo>
                  <a:pt x="42791" y="20200"/>
                </a:lnTo>
                <a:lnTo>
                  <a:pt x="42791" y="1400"/>
                </a:lnTo>
                <a:close/>
              </a:path>
              <a:path fill="darkenLess" w="44191" h="21600">
                <a:moveTo>
                  <a:pt x="44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91" y="20200"/>
                </a:lnTo>
                <a:close/>
              </a:path>
              <a:path fill="lighten" w="44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91" h="21600">
                <a:moveTo>
                  <a:pt x="15089" y="7301"/>
                </a:moveTo>
                <a:lnTo>
                  <a:pt x="16003" y="7301"/>
                </a:lnTo>
                <a:lnTo>
                  <a:pt x="16386" y="7667"/>
                </a:lnTo>
                <a:lnTo>
                  <a:pt x="25594" y="7667"/>
                </a:lnTo>
                <a:lnTo>
                  <a:pt x="26151" y="8224"/>
                </a:lnTo>
                <a:lnTo>
                  <a:pt x="26151" y="8772"/>
                </a:lnTo>
                <a:lnTo>
                  <a:pt x="27997" y="8772"/>
                </a:lnTo>
                <a:lnTo>
                  <a:pt x="28362" y="8224"/>
                </a:lnTo>
                <a:lnTo>
                  <a:pt x="29102" y="8224"/>
                </a:lnTo>
                <a:lnTo>
                  <a:pt x="29102" y="13376"/>
                </a:lnTo>
                <a:lnTo>
                  <a:pt x="28362" y="13376"/>
                </a:lnTo>
                <a:lnTo>
                  <a:pt x="27997" y="12828"/>
                </a:lnTo>
                <a:lnTo>
                  <a:pt x="26151" y="12828"/>
                </a:lnTo>
                <a:lnTo>
                  <a:pt x="26151" y="14107"/>
                </a:lnTo>
                <a:lnTo>
                  <a:pt x="16569" y="14107"/>
                </a:lnTo>
                <a:lnTo>
                  <a:pt x="16569" y="9877"/>
                </a:lnTo>
                <a:lnTo>
                  <a:pt x="16386" y="9877"/>
                </a:lnTo>
                <a:lnTo>
                  <a:pt x="16003" y="10243"/>
                </a:lnTo>
                <a:lnTo>
                  <a:pt x="15089" y="10243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0584C-4309-49D2-9EDA-EABCBB1531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Radial Geometric Deformation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2436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Allows stretching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675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83e68"/>
                </a:solidFill>
                <a:latin typeface="Verdana"/>
              </a:rPr>
              <a:t>Interpolate between deformer transformations </a:t>
            </a:r>
            <a:r>
              <a:rPr b="0" i="1" lang="en-US" sz="2700" spc="-1" strike="noStrike">
                <a:solidFill>
                  <a:srgbClr val="383e68"/>
                </a:solidFill>
                <a:latin typeface="Times New Roman"/>
              </a:rPr>
              <a:t>E</a:t>
            </a:r>
            <a:r>
              <a:rPr b="0" i="1" lang="en-US" sz="2700" spc="-1" strike="noStrike" baseline="-25000">
                <a:solidFill>
                  <a:srgbClr val="383e68"/>
                </a:solidFill>
                <a:latin typeface="Times New Roman"/>
              </a:rPr>
              <a:t>i</a:t>
            </a:r>
            <a:endParaRPr b="0" lang="en-US" sz="27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Models surface slippage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700520" y="1614600"/>
            <a:ext cx="3810240" cy="3898800"/>
            <a:chOff x="4700520" y="1614600"/>
            <a:chExt cx="3810240" cy="38988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4700520" y="1703520"/>
              <a:ext cx="3810240" cy="3809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"/>
            <p:cNvGrpSpPr/>
            <p:nvPr/>
          </p:nvGrpSpPr>
          <p:grpSpPr>
            <a:xfrm>
              <a:off x="6705360" y="4343040"/>
              <a:ext cx="989280" cy="687600"/>
              <a:chOff x="6705360" y="4343040"/>
              <a:chExt cx="989280" cy="687600"/>
            </a:xfrm>
          </p:grpSpPr>
          <p:sp>
            <p:nvSpPr>
              <p:cNvPr id="209" name=""/>
              <p:cNvSpPr/>
              <p:nvPr/>
            </p:nvSpPr>
            <p:spPr>
              <a:xfrm>
                <a:off x="6882840" y="4510080"/>
                <a:ext cx="81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bas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flipV="1">
                <a:off x="6705360" y="4343040"/>
                <a:ext cx="22860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6781680" y="1614600"/>
              <a:ext cx="1638720" cy="900000"/>
              <a:chOff x="6781680" y="1614600"/>
              <a:chExt cx="1638720" cy="900000"/>
            </a:xfrm>
          </p:grpSpPr>
          <p:sp>
            <p:nvSpPr>
              <p:cNvPr id="212" name=""/>
              <p:cNvSpPr/>
              <p:nvPr/>
            </p:nvSpPr>
            <p:spPr>
              <a:xfrm>
                <a:off x="6859080" y="1614600"/>
                <a:ext cx="156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accessor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6781680" y="2133720"/>
                <a:ext cx="45720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">
            <a:hlinkClick r:id="rId2"/>
          </p:cNvPr>
          <p:cNvSpPr/>
          <p:nvPr/>
        </p:nvSpPr>
        <p:spPr>
          <a:xfrm>
            <a:off x="6095880" y="5638680"/>
            <a:ext cx="1043280" cy="509760"/>
          </a:xfrm>
          <a:custGeom>
            <a:avLst/>
            <a:gdLst>
              <a:gd name="textAreaLeft" fmla="*/ 32760 w 1043280"/>
              <a:gd name="textAreaRight" fmla="*/ 1010520 w 104328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91" h="21600">
                <a:moveTo>
                  <a:pt x="0" y="0"/>
                </a:moveTo>
                <a:lnTo>
                  <a:pt x="44191" y="0"/>
                </a:lnTo>
                <a:lnTo>
                  <a:pt x="44191" y="21600"/>
                </a:lnTo>
                <a:lnTo>
                  <a:pt x="0" y="21600"/>
                </a:lnTo>
                <a:close/>
              </a:path>
              <a:path fill="lightenLess" w="44191" h="21600">
                <a:moveTo>
                  <a:pt x="0" y="0"/>
                </a:moveTo>
                <a:lnTo>
                  <a:pt x="44191" y="0"/>
                </a:lnTo>
                <a:lnTo>
                  <a:pt x="42791" y="1400"/>
                </a:lnTo>
                <a:lnTo>
                  <a:pt x="1400" y="1400"/>
                </a:lnTo>
                <a:close/>
              </a:path>
              <a:path fill="darken" w="44191" h="21600">
                <a:moveTo>
                  <a:pt x="44191" y="0"/>
                </a:moveTo>
                <a:lnTo>
                  <a:pt x="44191" y="21600"/>
                </a:lnTo>
                <a:lnTo>
                  <a:pt x="42791" y="20200"/>
                </a:lnTo>
                <a:lnTo>
                  <a:pt x="42791" y="1400"/>
                </a:lnTo>
                <a:close/>
              </a:path>
              <a:path fill="darkenLess" w="44191" h="21600">
                <a:moveTo>
                  <a:pt x="44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91" y="20200"/>
                </a:lnTo>
                <a:close/>
              </a:path>
              <a:path fill="lighten" w="44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91" h="21600">
                <a:moveTo>
                  <a:pt x="15089" y="7301"/>
                </a:moveTo>
                <a:lnTo>
                  <a:pt x="16003" y="7301"/>
                </a:lnTo>
                <a:lnTo>
                  <a:pt x="16386" y="7667"/>
                </a:lnTo>
                <a:lnTo>
                  <a:pt x="25594" y="7667"/>
                </a:lnTo>
                <a:lnTo>
                  <a:pt x="26151" y="8224"/>
                </a:lnTo>
                <a:lnTo>
                  <a:pt x="26151" y="8772"/>
                </a:lnTo>
                <a:lnTo>
                  <a:pt x="27997" y="8772"/>
                </a:lnTo>
                <a:lnTo>
                  <a:pt x="28362" y="8224"/>
                </a:lnTo>
                <a:lnTo>
                  <a:pt x="29102" y="8224"/>
                </a:lnTo>
                <a:lnTo>
                  <a:pt x="29102" y="13376"/>
                </a:lnTo>
                <a:lnTo>
                  <a:pt x="28362" y="13376"/>
                </a:lnTo>
                <a:lnTo>
                  <a:pt x="27997" y="12828"/>
                </a:lnTo>
                <a:lnTo>
                  <a:pt x="26151" y="12828"/>
                </a:lnTo>
                <a:lnTo>
                  <a:pt x="26151" y="14107"/>
                </a:lnTo>
                <a:lnTo>
                  <a:pt x="16569" y="14107"/>
                </a:lnTo>
                <a:lnTo>
                  <a:pt x="16569" y="9877"/>
                </a:lnTo>
                <a:lnTo>
                  <a:pt x="16386" y="9877"/>
                </a:lnTo>
                <a:lnTo>
                  <a:pt x="16003" y="10243"/>
                </a:lnTo>
                <a:lnTo>
                  <a:pt x="15089" y="10243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57200" y="5183280"/>
            <a:ext cx="4114800" cy="53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CC94-DB5C-4E64-B801-275190C4B0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Radial Geometric Deformation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2436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Generalize to follow curves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675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83e68"/>
                </a:solidFill>
                <a:latin typeface="Verdana"/>
              </a:rPr>
              <a:t>Interpolate between deformer transformations along curve</a:t>
            </a:r>
            <a:endParaRPr b="0" lang="en-US" sz="2700" spc="-1" strike="noStrike">
              <a:solidFill>
                <a:srgbClr val="383e6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700520" y="1614600"/>
            <a:ext cx="3810240" cy="3898800"/>
            <a:chOff x="4700520" y="1614600"/>
            <a:chExt cx="3810240" cy="389880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4700520" y="1703520"/>
              <a:ext cx="3810240" cy="3809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0" name=""/>
            <p:cNvGrpSpPr/>
            <p:nvPr/>
          </p:nvGrpSpPr>
          <p:grpSpPr>
            <a:xfrm>
              <a:off x="6705360" y="4190760"/>
              <a:ext cx="989280" cy="687600"/>
              <a:chOff x="6705360" y="4190760"/>
              <a:chExt cx="989280" cy="687600"/>
            </a:xfrm>
          </p:grpSpPr>
          <p:sp>
            <p:nvSpPr>
              <p:cNvPr id="221" name=""/>
              <p:cNvSpPr/>
              <p:nvPr/>
            </p:nvSpPr>
            <p:spPr>
              <a:xfrm>
                <a:off x="6882840" y="4357800"/>
                <a:ext cx="81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bas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6705360" y="4190760"/>
                <a:ext cx="22860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6858000" y="1614600"/>
              <a:ext cx="1562400" cy="823680"/>
              <a:chOff x="6858000" y="1614600"/>
              <a:chExt cx="1562400" cy="823680"/>
            </a:xfrm>
          </p:grpSpPr>
          <p:sp>
            <p:nvSpPr>
              <p:cNvPr id="224" name=""/>
              <p:cNvSpPr/>
              <p:nvPr/>
            </p:nvSpPr>
            <p:spPr>
              <a:xfrm>
                <a:off x="6859080" y="1614600"/>
                <a:ext cx="156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accessor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858000" y="2133720"/>
                <a:ext cx="380880" cy="30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6172200" y="3290760"/>
              <a:ext cx="1827360" cy="520560"/>
              <a:chOff x="6172200" y="3290760"/>
              <a:chExt cx="1827360" cy="520560"/>
            </a:xfrm>
          </p:grpSpPr>
          <p:sp>
            <p:nvSpPr>
              <p:cNvPr id="227" name=""/>
              <p:cNvSpPr/>
              <p:nvPr/>
            </p:nvSpPr>
            <p:spPr>
              <a:xfrm>
                <a:off x="7029360" y="3290760"/>
                <a:ext cx="97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curv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6172200" y="3352320"/>
                <a:ext cx="83808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F3C2-88F0-4230-BE70-52F9ADC0B2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Radial Geometric Deformation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2436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Generalize to arbitrary star-shaped geometry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Cache local displacements from unit sphere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675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83e68"/>
                </a:solidFill>
                <a:latin typeface="Verdana"/>
              </a:rPr>
              <a:t>Offset deformation by displacement</a:t>
            </a:r>
            <a:endParaRPr b="0" lang="en-US" sz="2700" spc="-1" strike="noStrike">
              <a:solidFill>
                <a:srgbClr val="383e68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437080" y="1197000"/>
            <a:ext cx="2335320" cy="2335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437080" y="3684600"/>
            <a:ext cx="2335320" cy="233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679F-2595-45F7-AAA7-ED557F32E8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Skin Surface Deformation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66640" y="1646280"/>
            <a:ext cx="3924360" cy="3924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643280" y="1646280"/>
            <a:ext cx="3924360" cy="39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F1BD-7FDE-4941-802B-6383F2D50B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Results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001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Video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8976-430E-49FA-B5FA-73142540A3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Future Work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001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Estimate skeleton from skin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Develop more complex muscle models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Handle interpenetration and collision detection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Optional replacement of geometric deformation with simulation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BAAD-CAA1-487D-B444-7555D38AB5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Acknowledgements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392436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DGP</a:t>
            </a: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DKP Studios</a:t>
            </a: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Winnie Tsang</a:t>
            </a: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John Hancock</a:t>
            </a: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Anand Agarawala</a:t>
            </a: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Noah Lockwood</a:t>
            </a: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2920" y="1196640"/>
            <a:ext cx="392436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Michael Neff</a:t>
            </a: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Alexander Kolliopoulos</a:t>
            </a: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Jack Wang</a:t>
            </a: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7444-BA80-42C4-8A88-D26949319F1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83e68"/>
                </a:solidFill>
                <a:latin typeface="Verdana"/>
              </a:rPr>
              <a:t>Outside-In</a:t>
            </a:r>
            <a:r>
              <a:rPr b="0" lang="en-US" sz="3600" spc="-1" strike="noStrike">
                <a:solidFill>
                  <a:srgbClr val="383e68"/>
                </a:solidFill>
                <a:latin typeface="Verdana"/>
              </a:rPr>
              <a:t> Anatomy Based Character Rigging</a:t>
            </a:r>
            <a:endParaRPr b="0" lang="en-US" sz="36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3e68"/>
                </a:solidFill>
                <a:latin typeface="Verdana"/>
              </a:rPr>
              <a:t>Michael Pratscher, Patrick Coleman,</a:t>
            </a:r>
            <a:endParaRPr b="0" lang="en-US" sz="2000" spc="-1" strike="noStrike">
              <a:solidFill>
                <a:srgbClr val="383e68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83e68"/>
                </a:solidFill>
                <a:latin typeface="Verdana"/>
              </a:rPr>
              <a:t>Joe Laszlo, and Karan Singh</a:t>
            </a:r>
            <a:endParaRPr b="0" lang="en-US" sz="2000" spc="-1" strike="noStrike">
              <a:solidFill>
                <a:srgbClr val="383e6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Initial Ellipsoid Fitting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44956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Define muscle pair reference planes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Calculate least squares fit of points by Gaussian distribution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181480" y="119700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890640" y="1197000"/>
            <a:ext cx="3071880" cy="30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59A4-E0CD-4370-A1D1-45D5BC786CC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Existing Techniques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001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Geometric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383e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Vertex weighted skinning </a:t>
            </a:r>
            <a:r>
              <a:rPr b="0" lang="en-US" sz="2000" spc="-1" strike="noStrike">
                <a:solidFill>
                  <a:srgbClr val="8e1913"/>
                </a:solidFill>
                <a:latin typeface="Verdana"/>
              </a:rPr>
              <a:t>[Mohr03, Wang02]</a:t>
            </a:r>
            <a:endParaRPr b="0" lang="en-US" sz="20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383e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Free-form deformation </a:t>
            </a:r>
            <a:r>
              <a:rPr b="0" lang="en-US" sz="2000" spc="-1" strike="noStrike">
                <a:solidFill>
                  <a:srgbClr val="8e1913"/>
                </a:solidFill>
                <a:latin typeface="Verdana"/>
              </a:rPr>
              <a:t>[Chadwick89, Singh00]</a:t>
            </a:r>
            <a:endParaRPr b="0" lang="en-US" sz="20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383e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Example-based </a:t>
            </a:r>
            <a:r>
              <a:rPr b="0" lang="en-US" sz="2000" spc="-1" strike="noStrike">
                <a:solidFill>
                  <a:srgbClr val="8e1913"/>
                </a:solidFill>
                <a:latin typeface="Verdana"/>
              </a:rPr>
              <a:t>[Allen02, Kry02, Lewis00]</a:t>
            </a:r>
            <a:endParaRPr b="0" lang="en-US" sz="20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Physical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383e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Mass-spring systems </a:t>
            </a:r>
            <a:r>
              <a:rPr b="0" lang="en-US" sz="2000" spc="-1" strike="noStrike">
                <a:solidFill>
                  <a:srgbClr val="8e1913"/>
                </a:solidFill>
                <a:latin typeface="Verdana"/>
              </a:rPr>
              <a:t>[Lee95]</a:t>
            </a:r>
            <a:endParaRPr b="0" lang="en-US" sz="20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83e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Finite element/volume models</a:t>
            </a: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1913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8e1913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8e1913"/>
                </a:solidFill>
                <a:latin typeface="Verdana"/>
              </a:rPr>
              <a:t>[Chen92, Teran03]</a:t>
            </a:r>
            <a:endParaRPr b="0" lang="en-US" sz="20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383e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Modal analysis </a:t>
            </a:r>
            <a:r>
              <a:rPr b="0" lang="en-US" sz="2000" spc="-1" strike="noStrike">
                <a:solidFill>
                  <a:srgbClr val="8e1913"/>
                </a:solidFill>
                <a:latin typeface="Verdana"/>
              </a:rPr>
              <a:t>[James02]</a:t>
            </a:r>
            <a:endParaRPr b="0" lang="en-US" sz="2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E6F0-645F-4030-B5DD-3A7841E68B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Existing Techniques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001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Anatomical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83e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Explicit musculature generates skin</a:t>
            </a: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8e1913"/>
                </a:solidFill>
                <a:latin typeface="Verdana"/>
              </a:rPr>
              <a:t>[Wilhelms97, Scheepers97]</a:t>
            </a:r>
            <a:endParaRPr b="0" lang="en-US" sz="20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83e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Adapt musculature to skin</a:t>
            </a: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8e1913"/>
                </a:solidFill>
                <a:latin typeface="Verdana"/>
              </a:rPr>
              <a:t>[Schneider98]</a:t>
            </a:r>
            <a:endParaRPr b="0" lang="en-US" sz="20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83e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Generate musculature from data</a:t>
            </a: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8e1913"/>
                </a:solidFill>
                <a:latin typeface="Verdana"/>
              </a:rPr>
              <a:t>[Ng-Thow-Hing00, Teran05]</a:t>
            </a:r>
            <a:endParaRPr b="0" lang="en-US" sz="20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B416-CE26-4391-9D0A-4B6AA49FEA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Goals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001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83e6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To develop a method that: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83e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Constructs </a:t>
            </a:r>
            <a:r>
              <a:rPr b="0" i="1" lang="en-US" sz="2600" spc="-1" strike="noStrike">
                <a:solidFill>
                  <a:srgbClr val="383e68"/>
                </a:solidFill>
                <a:latin typeface="Verdana"/>
              </a:rPr>
              <a:t>adaptive musculature</a:t>
            </a: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 from the </a:t>
            </a:r>
            <a:r>
              <a:rPr b="0" i="1" lang="en-US" sz="2600" spc="-1" strike="noStrike">
                <a:solidFill>
                  <a:srgbClr val="383e68"/>
                </a:solidFill>
                <a:latin typeface="Verdana"/>
              </a:rPr>
              <a:t>outside-in</a:t>
            </a: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 semiautomatically</a:t>
            </a: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83e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Allows for </a:t>
            </a:r>
            <a:r>
              <a:rPr b="0" i="1" lang="en-US" sz="2600" spc="-1" strike="noStrike">
                <a:solidFill>
                  <a:srgbClr val="383e68"/>
                </a:solidFill>
                <a:latin typeface="Verdana"/>
              </a:rPr>
              <a:t>reuse</a:t>
            </a: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 of musculoskeletal configurations</a:t>
            </a: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83e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Preserves </a:t>
            </a:r>
            <a:r>
              <a:rPr b="0" i="1" lang="en-US" sz="2600" spc="-1" strike="noStrike">
                <a:solidFill>
                  <a:srgbClr val="383e68"/>
                </a:solidFill>
                <a:latin typeface="Verdana"/>
              </a:rPr>
              <a:t>artist-sculpted</a:t>
            </a: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 surfaces</a:t>
            </a: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83e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Achieves </a:t>
            </a:r>
            <a:r>
              <a:rPr b="0" i="1" lang="en-US" sz="2600" spc="-1" strike="noStrike">
                <a:solidFill>
                  <a:srgbClr val="383e68"/>
                </a:solidFill>
                <a:latin typeface="Verdana"/>
              </a:rPr>
              <a:t>interactive</a:t>
            </a: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 anatomically-based deformations</a:t>
            </a: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83e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3e68"/>
                </a:solidFill>
                <a:latin typeface="Verdana"/>
              </a:rPr>
              <a:t>Accommodates a </a:t>
            </a:r>
            <a:r>
              <a:rPr b="0" i="1" lang="en-US" sz="2600" spc="-1" strike="noStrike">
                <a:solidFill>
                  <a:srgbClr val="383e68"/>
                </a:solidFill>
                <a:latin typeface="Verdana"/>
              </a:rPr>
              <a:t>production workflow</a:t>
            </a:r>
            <a:endParaRPr b="0" lang="en-US" sz="26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5807-48DE-4014-992D-934451A997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Our Method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001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An </a:t>
            </a:r>
            <a:r>
              <a:rPr b="0" i="1" lang="en-US" sz="2800" spc="-1" strike="noStrike">
                <a:solidFill>
                  <a:srgbClr val="383e68"/>
                </a:solidFill>
                <a:latin typeface="Verdana"/>
              </a:rPr>
              <a:t>outside-in</a:t>
            </a:r>
            <a:r>
              <a:rPr b="0" lang="en-US" sz="2800" spc="-1" strike="noStrike">
                <a:solidFill>
                  <a:srgbClr val="383e68"/>
                </a:solidFill>
                <a:latin typeface="Verdana"/>
              </a:rPr>
              <a:t> approach that constructs musculature from ellipsoids fit to the character skin and produces geometric muscle and skin deformations from skeletal animation</a:t>
            </a:r>
            <a:endParaRPr b="0" lang="en-US" sz="2800" spc="-1" strike="noStrike">
              <a:solidFill>
                <a:srgbClr val="383e68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6280" y="4114800"/>
            <a:ext cx="8191440" cy="13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AF01-CAE6-4A9E-8737-2BB54BFF61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66280" y="1196640"/>
            <a:ext cx="8001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Part I: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  <a:p>
            <a:pPr marL="4698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Constructing Musculature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32D1-910F-40BB-AEE0-FA77D0376A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Input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196640"/>
            <a:ext cx="8001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383e68"/>
                </a:solidFill>
                <a:latin typeface="Verdana"/>
              </a:rPr>
              <a:t>Character skin and skeleton</a:t>
            </a:r>
            <a:endParaRPr b="0" lang="en-US" sz="3000" spc="-1" strike="noStrike">
              <a:solidFill>
                <a:srgbClr val="383e68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90920" y="2103480"/>
            <a:ext cx="3916080" cy="391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BE1A-4F7B-4863-BD58-517C89D896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2282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83e68"/>
                </a:solidFill>
                <a:latin typeface="Verdana"/>
              </a:rPr>
              <a:t>Segmentation</a:t>
            </a:r>
            <a:endParaRPr b="0" lang="en-US" sz="3800" spc="-1" strike="noStrike">
              <a:solidFill>
                <a:srgbClr val="383e68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67200" y="1703520"/>
            <a:ext cx="347688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695160" y="1219320"/>
            <a:ext cx="3924360" cy="1371600"/>
            <a:chOff x="695160" y="1219320"/>
            <a:chExt cx="3924360" cy="1371600"/>
          </a:xfrm>
        </p:grpSpPr>
        <p:graphicFrame>
          <p:nvGraphicFramePr>
            <p:cNvPr id="109" name=""/>
            <p:cNvGraphicFramePr/>
            <p:nvPr/>
          </p:nvGraphicFramePr>
          <p:xfrm>
            <a:off x="914400" y="1752480"/>
            <a:ext cx="3705120" cy="838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14400" y="1752480"/>
                      <a:ext cx="370512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695160" y="1219320"/>
              <a:ext cx="279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383e68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83e68"/>
                  </a:solidFill>
                  <a:latin typeface="Verdana"/>
                </a:rPr>
                <a:t>Distance te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71400" y="2590920"/>
            <a:ext cx="3919680" cy="1218960"/>
            <a:chOff x="671400" y="2590920"/>
            <a:chExt cx="3919680" cy="1218960"/>
          </a:xfrm>
        </p:grpSpPr>
        <p:graphicFrame>
          <p:nvGraphicFramePr>
            <p:cNvPr id="113" name=""/>
            <p:cNvGraphicFramePr/>
            <p:nvPr/>
          </p:nvGraphicFramePr>
          <p:xfrm>
            <a:off x="914400" y="3162240"/>
            <a:ext cx="3676680" cy="647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914400" y="3162240"/>
                      <a:ext cx="367668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671400" y="2590920"/>
              <a:ext cx="261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383e68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83e68"/>
                  </a:solidFill>
                  <a:latin typeface="Verdana"/>
                </a:rPr>
                <a:t>Normal te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09480" y="3976560"/>
            <a:ext cx="4267440" cy="2024280"/>
            <a:chOff x="609480" y="3976560"/>
            <a:chExt cx="4267440" cy="2024280"/>
          </a:xfrm>
        </p:grpSpPr>
        <p:graphicFrame>
          <p:nvGraphicFramePr>
            <p:cNvPr id="117" name=""/>
            <p:cNvGraphicFramePr/>
            <p:nvPr/>
          </p:nvGraphicFramePr>
          <p:xfrm>
            <a:off x="914400" y="4495680"/>
            <a:ext cx="3657600" cy="1505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14400" y="4495680"/>
                      <a:ext cx="3657600" cy="150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609480" y="3976560"/>
              <a:ext cx="426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383e68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83e68"/>
                  </a:solidFill>
                  <a:latin typeface="Verdana"/>
                </a:rPr>
                <a:t>Surface smooth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E5EE-62CF-41CF-B726-8F75EE1323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05:10:49Z</dcterms:created>
  <dc:creator>bob</dc:creator>
  <dc:description/>
  <dc:language>en-US</dc:language>
  <cp:lastModifiedBy>kcomplex</cp:lastModifiedBy>
  <dcterms:modified xsi:type="dcterms:W3CDTF">2005-07-31T23:20:59Z</dcterms:modified>
  <cp:revision>347</cp:revision>
  <dc:subject/>
  <dc:title>Outside-In Anatomy Based Character Rigging</dc:title>
</cp:coreProperties>
</file>