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3200" y="2572920"/>
            <a:ext cx="119667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200" y="6322680"/>
            <a:ext cx="119667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3200" y="2572920"/>
            <a:ext cx="58395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25080" y="2572920"/>
            <a:ext cx="58395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3200" y="6322680"/>
            <a:ext cx="58395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25080" y="6322680"/>
            <a:ext cx="58395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3200" y="2572920"/>
            <a:ext cx="385308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39240" y="2572920"/>
            <a:ext cx="385308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85280" y="2572920"/>
            <a:ext cx="385308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3200" y="6322680"/>
            <a:ext cx="385308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39240" y="6322680"/>
            <a:ext cx="385308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585280" y="6322680"/>
            <a:ext cx="385308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3200" y="2572920"/>
            <a:ext cx="11966760" cy="71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3200" y="2572920"/>
            <a:ext cx="11966760" cy="71787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3200" y="2572920"/>
            <a:ext cx="5839560" cy="71787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25080" y="2572920"/>
            <a:ext cx="5839560" cy="71787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9760" y="304920"/>
            <a:ext cx="9752040" cy="104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200" y="2572920"/>
            <a:ext cx="58395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25080" y="2572920"/>
            <a:ext cx="5839560" cy="71787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3200" y="6322680"/>
            <a:ext cx="58395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3200" y="2572920"/>
            <a:ext cx="5839560" cy="71787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25080" y="2572920"/>
            <a:ext cx="58395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25080" y="6322680"/>
            <a:ext cx="58395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3200" y="2572920"/>
            <a:ext cx="58395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25080" y="2572920"/>
            <a:ext cx="58395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3200" y="6322680"/>
            <a:ext cx="11966760" cy="34239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e6ff"/>
            </a:gs>
            <a:gs pos="100000">
              <a:srgbClr val="2e6b9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760" y="304920"/>
            <a:ext cx="9752040" cy="226368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 Bold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2572920"/>
            <a:ext cx="11966760" cy="717876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431640" y="2387520"/>
            <a:ext cx="12027240" cy="1800"/>
          </a:xfrm>
          <a:prstGeom prst="line">
            <a:avLst/>
          </a:prstGeom>
          <a:ln cap="rnd" w="50760">
            <a:solidFill>
              <a:srgbClr val="073a6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10636200" y="-88920"/>
            <a:ext cx="2578320" cy="257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1"/>
          <p:cNvSpPr/>
          <p:nvPr/>
        </p:nvSpPr>
        <p:spPr>
          <a:xfrm>
            <a:off x="1440000" y="2700360"/>
            <a:ext cx="97534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133920" tIns="76320" bIns="76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Biomechanically-Inspired</a:t>
            </a:r>
            <a:br>
              <a:rPr sz="5200"/>
            </a:b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Motion Path Editing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2"/>
          <p:cNvSpPr/>
          <p:nvPr/>
        </p:nvSpPr>
        <p:spPr>
          <a:xfrm>
            <a:off x="1440000" y="5219640"/>
            <a:ext cx="95392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133920" tIns="76320" bIns="76320" anchor="t">
            <a:noAutofit/>
          </a:bodyPr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2960"/>
                <a:tab algn="l" pos="1287360"/>
                <a:tab algn="l" pos="2201760"/>
                <a:tab algn="l" pos="3116160"/>
                <a:tab algn="l" pos="4030560"/>
                <a:tab algn="l" pos="4944960"/>
                <a:tab algn="l" pos="5859360"/>
                <a:tab algn="l" pos="6773760"/>
                <a:tab algn="l" pos="7688160"/>
                <a:tab algn="l" pos="860256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oah Lockwood and Karan Sing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372960"/>
                <a:tab algn="l" pos="1287360"/>
                <a:tab algn="l" pos="2201760"/>
                <a:tab algn="l" pos="3116160"/>
                <a:tab algn="l" pos="4030560"/>
                <a:tab algn="l" pos="4944960"/>
                <a:tab algn="l" pos="5859360"/>
                <a:tab algn="l" pos="6773760"/>
                <a:tab algn="l" pos="7688160"/>
                <a:tab algn="l" pos="860256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Motion Preprocess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 motion changes are constr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dentify deformation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hand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ust correspond to potential mo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aracter exertion at path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vertical min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ny local minima thoug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1173240" y="6748560"/>
          <a:ext cx="79358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6748560"/>
                    <a:ext cx="7935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Path Deformation Handles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9760" y="2573280"/>
            <a:ext cx="1196784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ilter based on locally maximal # of contac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676520" y="3724200"/>
            <a:ext cx="97520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Algorithm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ion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Interactive Path De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s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mewar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Interactive Path Deformation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s-rigid-as-possible-deformation 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[Igarashi2005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571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djustments for curves instead of triangle mes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Sharpness artifacts in large deformations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81120" y="6012000"/>
            <a:ext cx="11682360" cy="203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ARAP Modifications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utomatic pre-scaling factor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847800" y="3508200"/>
            <a:ext cx="1134252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Algorithm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ion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teractive Path De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Pos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mewar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Pose Adjustment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Body rotation with path tan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ot path deformation and I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EEpathediting.avi" descr=""/>
          <p:cNvPicPr/>
          <p:nvPr/>
        </p:nvPicPr>
        <p:blipFill>
          <a:blip r:embed="rId1"/>
          <a:stretch/>
        </p:blipFill>
        <p:spPr>
          <a:xfrm>
            <a:off x="2828880" y="421020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Algorithm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ion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teractive Path De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s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Timewar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Timewarp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Unmodified timing can look unnatur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walk_notimewarp.avi" descr=""/>
          <p:cNvPicPr/>
          <p:nvPr/>
        </p:nvPicPr>
        <p:blipFill>
          <a:blip r:embed="rId1"/>
          <a:stretch/>
        </p:blipFill>
        <p:spPr>
          <a:xfrm>
            <a:off x="2612880" y="3435480"/>
            <a:ext cx="7969320" cy="59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Froude Number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Used to evaluate dynamic simi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101600" y="2571840"/>
            <a:ext cx="2684520" cy="180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Goals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ast editing of single mo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High-level spatial 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lexible to motion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Froude Number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Used to evaluate dynamic simil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lative stride length vs. Froude numb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101600" y="2571840"/>
            <a:ext cx="2684520" cy="180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093240" y="6748560"/>
            <a:ext cx="3602160" cy="165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1101600" y="6100920"/>
            <a:ext cx="7848720" cy="34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Froude Timewarp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Velocity and stride length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ratios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3692520" y="3645000"/>
            <a:ext cx="6049800" cy="238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Froude Timewarp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Velocity and stride length ratios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arget velocities and deformed path overconstrain new key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3692520" y="3645000"/>
            <a:ext cx="6049800" cy="238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Object 8"/>
          <p:cNvGraphicFramePr/>
          <p:nvPr/>
        </p:nvGraphicFramePr>
        <p:xfrm>
          <a:off x="1084320" y="3633840"/>
          <a:ext cx="10441080" cy="238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4320" y="3633840"/>
                    <a:ext cx="1044108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Timewarping results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04" name="walk_timewarp.avi" descr=""/>
          <p:cNvPicPr/>
          <p:nvPr/>
        </p:nvPicPr>
        <p:blipFill>
          <a:blip r:embed="rId1"/>
          <a:stretch/>
        </p:blipFill>
        <p:spPr>
          <a:xfrm>
            <a:off x="1749600" y="2571840"/>
            <a:ext cx="9432720" cy="707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Algorithm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3200" y="2508120"/>
            <a:ext cx="1250964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ion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teractive Path De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s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mewarping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Algorithm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3200" y="2508120"/>
            <a:ext cx="1250964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ion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teractive Path De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s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mewarping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mited to simple edits of simp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Algorithm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3200" y="2508120"/>
            <a:ext cx="1250964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ion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teractive Path De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s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mewarping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mited to simple edits of simple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ach stage modified based on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components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Vertical Motion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AP deformation is 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571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pply twice, from top and 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Vertical Motion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AP deformation is 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571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pply twice, from top and 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ocal coordinate system produces rotations: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101600" y="6603840"/>
            <a:ext cx="662940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Vertical Motion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250964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RAP deformation is 2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571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pply twice, from top and s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ocal/global coordinate system produces shear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101600" y="6595920"/>
            <a:ext cx="10361880" cy="27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Related Work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ath-based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0500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otion graphs, motion doodles, deformable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ath-based motion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0500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Kinematic, limited to walking or simple loc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40500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Multi-character synchronized motion  [Kim2009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10275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Vertical Motion Editing Results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20" name="stairedit_before_twice.avi" descr=""/>
          <p:cNvPicPr/>
          <p:nvPr/>
        </p:nvPicPr>
        <p:blipFill>
          <a:blip r:embed="rId1"/>
          <a:stretch/>
        </p:blipFill>
        <p:spPr>
          <a:xfrm>
            <a:off x="1820880" y="2500200"/>
            <a:ext cx="9550440" cy="716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10275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Vertical Motion Editing Results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22" name="stairedit_after_twice.avi" descr=""/>
          <p:cNvPicPr/>
          <p:nvPr/>
        </p:nvPicPr>
        <p:blipFill>
          <a:blip r:embed="rId1"/>
          <a:stretch/>
        </p:blipFill>
        <p:spPr>
          <a:xfrm>
            <a:off x="1820880" y="2500200"/>
            <a:ext cx="9550440" cy="716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Ballistic Motion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52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 fontScale="27000"/>
          </a:bodyPr>
          <a:p>
            <a:pPr marL="145080" indent="-130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Unrealistic deformation of airborne motion:</a:t>
            </a: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257640" y="3325680"/>
            <a:ext cx="5657760" cy="27021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500040" y="5913360"/>
            <a:ext cx="11968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133920" tIns="76320" bIns="76320" anchor="t">
            <a:no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Ballistic Motion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524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 fontScale="27000"/>
          </a:bodyPr>
          <a:p>
            <a:pPr marL="145080" indent="-130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Unrealistic deformation of airborne motion:</a:t>
            </a: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257640" y="3325680"/>
            <a:ext cx="5657760" cy="2702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3257640" y="6675480"/>
            <a:ext cx="5657760" cy="27082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500040" y="5913360"/>
            <a:ext cx="119682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133920" tIns="76320" bIns="76320" anchor="t">
            <a:no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strained to stretch only, no bending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9760" y="272880"/>
            <a:ext cx="1013148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Ballistic Motion Editing Results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celeration-based timewarp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jumpedit_before_and_after.avi" descr=""/>
          <p:cNvPicPr/>
          <p:nvPr/>
        </p:nvPicPr>
        <p:blipFill>
          <a:blip r:embed="rId1"/>
          <a:stretch/>
        </p:blipFill>
        <p:spPr>
          <a:xfrm>
            <a:off x="2397240" y="336384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9760" y="272880"/>
            <a:ext cx="1013148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Ballistic Motion Editing Variety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36" name="multijump_twice.avi" descr=""/>
          <p:cNvPicPr/>
          <p:nvPr/>
        </p:nvPicPr>
        <p:blipFill>
          <a:blip r:embed="rId1"/>
          <a:stretch/>
        </p:blipFill>
        <p:spPr>
          <a:xfrm>
            <a:off x="1819440" y="2500200"/>
            <a:ext cx="9434520" cy="707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Turns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istic turning paths, but motion is too fa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turnedit_before.avi" descr=""/>
          <p:cNvPicPr/>
          <p:nvPr/>
        </p:nvPicPr>
        <p:blipFill>
          <a:blip r:embed="rId1"/>
          <a:stretch/>
        </p:blipFill>
        <p:spPr>
          <a:xfrm>
            <a:off x="2397240" y="3362400"/>
            <a:ext cx="8354880" cy="626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Curvature and Velocity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ne-third power law which relates curvature and velocity:</a:t>
            </a: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173240" y="4156200"/>
            <a:ext cx="3265560" cy="192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Curvature and Velocity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ne-third power law which relates curvature and velocity:</a:t>
            </a:r>
            <a:br>
              <a:rPr sz="4400"/>
            </a:b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ath curvature from curvature-continuous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overal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1173240" y="4156200"/>
            <a:ext cx="3265560" cy="192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Path Curvature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220004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all path: handle-interpolating cubic sp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914400" y="3508200"/>
            <a:ext cx="11174400" cy="43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Algorithm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otion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teractive Path De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s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mewar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Path Curvature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220004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all path: handle-interpolating cubic sp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944640" y="3508200"/>
            <a:ext cx="1117440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Turn Timewarp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urvature and velocity ratios:</a:t>
            </a:r>
            <a:br>
              <a:rPr sz="4400"/>
            </a:b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814320" y="3579840"/>
          <a:ext cx="11304720" cy="23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4320" y="3579840"/>
                    <a:ext cx="11304720" cy="23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Combined Timewarp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wo target velocities from Froude and curvature rul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7"/>
          <p:cNvGraphicFramePr/>
          <p:nvPr/>
        </p:nvGraphicFramePr>
        <p:xfrm>
          <a:off x="1101600" y="4084560"/>
          <a:ext cx="568800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4084560"/>
                    <a:ext cx="56880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Combined Timewarp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wo target velocities from Froude and curvature rul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ultiplicative combina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1101600" y="4084560"/>
          <a:ext cx="5688000" cy="35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4084560"/>
                    <a:ext cx="5688000" cy="35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1095480" y="8332920"/>
            <a:ext cx="6500880" cy="111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9760" y="272880"/>
            <a:ext cx="1065060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Combined Timewarp Results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66" name="turnedit_after.avi" descr=""/>
          <p:cNvPicPr/>
          <p:nvPr/>
        </p:nvPicPr>
        <p:blipFill>
          <a:blip r:embed="rId1"/>
          <a:stretch/>
        </p:blipFill>
        <p:spPr>
          <a:xfrm>
            <a:off x="1820880" y="2500200"/>
            <a:ext cx="9433080" cy="707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Mixed Motion Edit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68" name="multi_before_and_after.avi" descr=""/>
          <p:cNvPicPr/>
          <p:nvPr/>
        </p:nvPicPr>
        <p:blipFill>
          <a:blip r:embed="rId1"/>
          <a:stretch/>
        </p:blipFill>
        <p:spPr>
          <a:xfrm>
            <a:off x="1822320" y="2500200"/>
            <a:ext cx="9504360" cy="712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0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Non-human Characters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70" name="horse.avi" descr=""/>
          <p:cNvPicPr/>
          <p:nvPr/>
        </p:nvPicPr>
        <p:blipFill>
          <a:blip r:embed="rId1"/>
          <a:stretch/>
        </p:blipFill>
        <p:spPr>
          <a:xfrm>
            <a:off x="1820880" y="2500200"/>
            <a:ext cx="9505800" cy="71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Simulation Edit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pic>
        <p:nvPicPr>
          <p:cNvPr id="172" name="balledit.avi" descr=""/>
          <p:cNvPicPr/>
          <p:nvPr/>
        </p:nvPicPr>
        <p:blipFill>
          <a:blip r:embed="rId1"/>
          <a:stretch/>
        </p:blipFill>
        <p:spPr>
          <a:xfrm>
            <a:off x="1820880" y="2500200"/>
            <a:ext cx="9505800" cy="71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9760" y="272880"/>
            <a:ext cx="1065060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13472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Conclusion and Discussion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ur syst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Uses biomechanical models and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ccommodates many motion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utomatically adjusts motion ti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Limit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Acrobatic maneu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Range of plausible tim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Full-body ed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Thanks!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cknowledge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571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Jacobo Bibliowicz, Patrick Coleman, Martin de Lasa, John Hancock, Ryan Schmidt, Patricio Sim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571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A 2011 revie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571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MU Motion Captur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571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entroid Motion Cap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7080" indent="-57132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utode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Terminology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Keys: 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ull body pose, position, a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Path: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sequence of skeleton root 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Pose Adjustment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igid transformation of foot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2570040" y="4300560"/>
            <a:ext cx="792180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Pose Adjustment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igid transformation of foot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2570040" y="4300560"/>
            <a:ext cx="7921800" cy="48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Algorithm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Motion Pre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nteractive Path De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ose Adjust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mewar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Motion Preprocess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 motion changes are constr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dentify deformation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hand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ust correspond to potential mo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Motion Preprocess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 motion changes are constr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dentify deformation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hand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ust correspond to potential mo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aracter exertion at path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vertical min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272880"/>
            <a:ext cx="9753840" cy="232920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ctr">
            <a:noAutofit/>
          </a:bodyPr>
          <a:p>
            <a:pPr indent="0">
              <a:buNone/>
              <a:tabLst>
                <a:tab algn="l" pos="0"/>
                <a:tab algn="l" pos="572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CA" sz="5200" spc="-1" strike="noStrike">
                <a:solidFill>
                  <a:srgbClr val="000000"/>
                </a:solidFill>
                <a:latin typeface="Arial Bold"/>
              </a:rPr>
              <a:t>Motion Preprocessing</a:t>
            </a:r>
            <a:endParaRPr b="0" lang="en-US" sz="5200" spc="-1" strike="noStrike">
              <a:solidFill>
                <a:srgbClr val="000000"/>
              </a:solidFill>
              <a:latin typeface="Arial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3200" y="2573280"/>
            <a:ext cx="11968200" cy="7243920"/>
          </a:xfrm>
          <a:prstGeom prst="rect">
            <a:avLst/>
          </a:prstGeom>
          <a:noFill/>
          <a:ln w="0">
            <a:noFill/>
          </a:ln>
        </p:spPr>
        <p:txBody>
          <a:bodyPr lIns="76320" rIns="133920" tIns="76320" bIns="76320" anchor="t">
            <a:normAutofit/>
          </a:bodyPr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Real motion changes are constrai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Identify deformation </a:t>
            </a:r>
            <a:r>
              <a:rPr b="0" i="1" lang="en-CA" sz="4400" spc="-1" strike="noStrike">
                <a:solidFill>
                  <a:srgbClr val="000000"/>
                </a:solidFill>
                <a:latin typeface="Arial"/>
              </a:rPr>
              <a:t>hand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ust correspond to potential motion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haracter exertion at path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vertical min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-482760">
              <a:lnSpc>
                <a:spcPct val="110000"/>
              </a:lnSpc>
              <a:spcBef>
                <a:spcPts val="901"/>
              </a:spcBef>
              <a:buClr>
                <a:srgbClr val="073a6c"/>
              </a:buClr>
              <a:buSzPct val="11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ny local minima though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82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134720"/>
                <a:tab algn="l" pos="10858680"/>
                <a:tab algn="l" pos="115822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5"/>
          <p:cNvGraphicFramePr/>
          <p:nvPr/>
        </p:nvGraphicFramePr>
        <p:xfrm>
          <a:off x="1173240" y="6748560"/>
          <a:ext cx="79358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6748560"/>
                    <a:ext cx="7935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6"/>
          <p:cNvGraphicFramePr/>
          <p:nvPr/>
        </p:nvGraphicFramePr>
        <p:xfrm>
          <a:off x="1173240" y="6748560"/>
          <a:ext cx="793584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73240" y="6748560"/>
                    <a:ext cx="7935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ah</cp:lastModifiedBy>
  <dcterms:modified xsi:type="dcterms:W3CDTF">2011-10-14T21:10:35Z</dcterms:modified>
  <cp:revision>109</cp:revision>
  <dc:subject/>
  <dc:title>PowerPoint Presentation</dc:title>
</cp:coreProperties>
</file>